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17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20A-4692-4A65-B758-8495C3BD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833-EFEE-403A-8887-B3944D05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3341-79A9-49CE-8759-E0E9A9C7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B57-A012-4C50-8A98-6DC974F9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88A-34C2-4F95-9089-88ED6D61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36F-0D64-4219-A5C5-EA077959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873-305C-4715-AAFC-BD66FDD9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52E-EE73-4A80-80DB-7E135CAD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088-5157-4AB8-9601-7F21C318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82D-45DC-44A6-85B6-B3E08639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6D5-DE02-4C15-A8D4-919B9CA4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183-02BF-4EB7-B1B4-FF84B930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9C69-E5A4-4AF3-8DBE-8E9D938714D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699920"/>
            <a:ext cx="80629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Aminokyseliny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dnotlivé aminokyseliny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ární aminokysel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320920"/>
            <a:ext cx="40384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sparagin (As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2320920"/>
            <a:ext cx="40384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Glutamin (Gl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79640" y="3186000"/>
          <a:ext cx="230508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186000"/>
                    <a:ext cx="23050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364000" y="3186000"/>
          <a:ext cx="2916360" cy="10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186000"/>
                    <a:ext cx="291636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dnotlivé aminokyseliny</a:t>
            </a:r>
            <a:br>
              <a:rPr sz="48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yselé aminokysel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320920"/>
            <a:ext cx="40384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sparagov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kyselina (As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27640" y="2320920"/>
            <a:ext cx="40384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Glutamov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kyselina (Gl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64000" y="3500280"/>
          <a:ext cx="288000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3500280"/>
                    <a:ext cx="28800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547640" y="3573360"/>
          <a:ext cx="216072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573360"/>
                    <a:ext cx="21607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dnotlivé aminokyseliny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ásadité aminokysel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1916280"/>
            <a:ext cx="40384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idin (Hi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rginin (Arg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7640" y="1916280"/>
            <a:ext cx="40384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ysin (Ly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- esenciál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19280" y="2708280"/>
          <a:ext cx="252108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708280"/>
                    <a:ext cx="25210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859280" y="2924280"/>
          <a:ext cx="384660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924280"/>
                    <a:ext cx="38466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619280" y="4941720"/>
          <a:ext cx="4176720" cy="105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4941720"/>
                    <a:ext cx="417672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jímavosti ve strukturách jednotlivých aminokyse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senciální aminokysel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organismus si je nedokáže syntetizovat, musí je získávat z potravy: Val, Leu, Ile, Phe, Trp, Met, Thr, L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rné aminokysel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Cys,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minokyseliny se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vláštní skupino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aromatické jádro: Phe, Tyr, T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guanidylovou skupinu: A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imidazolovou skupinu: 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tabolické reakce aminokyse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ondenzac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vznik oligopeptidů, polypeptidů a protei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eptidová vaz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020000" y="3933720"/>
          <a:ext cx="3934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3933720"/>
                    <a:ext cx="3934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979640" y="3500280"/>
            <a:ext cx="1440000" cy="503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924280"/>
            <a:ext cx="79200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55640" y="2997360"/>
          <a:ext cx="7704000" cy="12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2997360"/>
                    <a:ext cx="770400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tabolické reakce aminokyse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karboxylace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znik amí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nevratná re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mí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68360" y="3789360"/>
          <a:ext cx="4896000" cy="11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789360"/>
                    <a:ext cx="489600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tabolické reakce aminokyse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ransaminac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přenos jedné aminoskupiny na jinou moleku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etokyselin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71640" y="3718080"/>
            <a:ext cx="505080" cy="360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3718080"/>
            <a:ext cx="504720" cy="360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0720" y="4581360"/>
            <a:ext cx="64908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653000"/>
            <a:ext cx="647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/>
          <p:nvPr/>
        </p:nvCxnSpPr>
        <p:spPr>
          <a:xfrm flipH="1" flipV="1" rot="5400000">
            <a:off x="4428000" y="1483560"/>
            <a:ext cx="73800" cy="7131960"/>
          </a:xfrm>
          <a:prstGeom prst="curvedConnector5">
            <a:avLst>
              <a:gd name="adj1" fmla="val -636764"/>
              <a:gd name="adj2" fmla="val 50000"/>
              <a:gd name="adj3" fmla="val -6367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39" name=""/>
          <p:cNvGraphicFramePr/>
          <p:nvPr/>
        </p:nvGraphicFramePr>
        <p:xfrm>
          <a:off x="179280" y="3789360"/>
          <a:ext cx="882504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789360"/>
                    <a:ext cx="88250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41" name=""/>
          <p:cNvCxnSpPr>
            <a:stCxn id="134" idx="0"/>
            <a:endCxn id="135" idx="0"/>
          </p:cNvCxnSpPr>
          <p:nvPr/>
        </p:nvCxnSpPr>
        <p:spPr>
          <a:xfrm flipH="1" rot="16200000">
            <a:off x="4355280" y="2386800"/>
            <a:ext cx="2160" cy="2664360"/>
          </a:xfrm>
          <a:prstGeom prst="curvedConnector5">
            <a:avLst>
              <a:gd name="adj1" fmla="val -24000000"/>
              <a:gd name="adj2" fmla="val 50000"/>
              <a:gd name="adj3" fmla="val -24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tabolické reakce aminokyse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xidační deaminac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etokyse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79280" y="3068640"/>
          <a:ext cx="8804520" cy="11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068640"/>
                    <a:ext cx="8804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835280" y="1700280"/>
            <a:ext cx="59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yselé prostřed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kalické prostřed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ální prostřed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84640" y="2017800"/>
            <a:ext cx="679680" cy="684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157720" y="1873080"/>
          <a:ext cx="136836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7720" y="1873080"/>
                    <a:ext cx="13683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021360" y="3384720"/>
            <a:ext cx="976320" cy="43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445000" y="3457440"/>
          <a:ext cx="1368720" cy="107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45000" y="3457440"/>
                    <a:ext cx="13687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805360" y="5041800"/>
            <a:ext cx="9842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56280" y="5257800"/>
            <a:ext cx="722160" cy="677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229360" y="5113440"/>
          <a:ext cx="1380960" cy="10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29360" y="5113440"/>
                    <a:ext cx="138096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68360" y="26028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ociace aminokyse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ociace aminokyse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minokyseliny jsou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mfiont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částice, které obsahují kyselé i zásadité skupi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soelektrický bo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: hodnota pH roztoku, kdy volný náboj amfiontu je nulový (amfiont se nepohybuje v elektrickém po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K - disociační konsta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igrace amfiont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v eletrickém poli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se využívá při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elektroforetickém 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apilární elektroforé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capillary electrophoresis"/>
          <p:cNvPicPr/>
          <p:nvPr/>
        </p:nvPicPr>
        <p:blipFill>
          <a:blip r:embed="rId1"/>
          <a:stretch/>
        </p:blipFill>
        <p:spPr>
          <a:xfrm>
            <a:off x="5219640" y="4437000"/>
            <a:ext cx="3456000" cy="154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050920" y="3141720"/>
                <a:ext cx="2376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 jsou aminokyseliny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78487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stavební jednotka peptidů a bílko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unkce aminokyselin je různá, především určení vlastností bílko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istují stovky různých aminokyselin, ale jen 20 z nich je součástí bílkovin (proteinogenní / kódované aminokysel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pírová chromatogra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770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írová chromatografie se využívá k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ikac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inokyse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na papír se nanese smě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inokyse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papír se ponoří do rozpouště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rozpouštědlo vzlíná a unáší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sebou jednotlivé aminokyseli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le jejich rozpustnost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daném rozpouště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identifikace podle známý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TLC" descr=""/>
          <p:cNvPicPr/>
          <p:nvPr/>
        </p:nvPicPr>
        <p:blipFill>
          <a:blip r:embed="rId1"/>
          <a:srcRect l="51273" t="44982" r="-56" b="0"/>
          <a:stretch/>
        </p:blipFill>
        <p:spPr>
          <a:xfrm>
            <a:off x="5364000" y="2637000"/>
            <a:ext cx="3457800" cy="3398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62560" y="2565360"/>
            <a:ext cx="1224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91280" y="5229360"/>
            <a:ext cx="360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99280" y="5516640"/>
            <a:ext cx="2232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ělení aminokyselin na měničích iontů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 separaci rozhodují různě velké elektrostatické přitažlivé síly mezi stacionární fází a aminokyselin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yužití při elektroforéze nebo chromatograf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pírová elektroforé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od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at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uf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pu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195640" y="4076640"/>
            <a:ext cx="4752360" cy="1800000"/>
            <a:chOff x="2195640" y="4076640"/>
            <a:chExt cx="4752360" cy="1800000"/>
          </a:xfrm>
        </p:grpSpPr>
        <p:grpSp>
          <p:nvGrpSpPr>
            <p:cNvPr id="171" name=""/>
            <p:cNvGrpSpPr/>
            <p:nvPr/>
          </p:nvGrpSpPr>
          <p:grpSpPr>
            <a:xfrm>
              <a:off x="2466720" y="4076640"/>
              <a:ext cx="3913200" cy="1800000"/>
              <a:chOff x="2466720" y="4076640"/>
              <a:chExt cx="3913200" cy="18000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2466720" y="4510800"/>
                <a:ext cx="3913200" cy="1365840"/>
                <a:chOff x="2466720" y="4510800"/>
                <a:chExt cx="3913200" cy="13658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2466720" y="4510800"/>
                  <a:ext cx="3913200" cy="1365840"/>
                  <a:chOff x="2466720" y="4510800"/>
                  <a:chExt cx="3913200" cy="1365840"/>
                </a:xfrm>
              </p:grpSpPr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549880" y="4510800"/>
                    <a:ext cx="3768120" cy="1365840"/>
                    <a:chOff x="2549880" y="4510800"/>
                    <a:chExt cx="3768120" cy="1365840"/>
                  </a:xfrm>
                </p:grpSpPr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2549880" y="4510800"/>
                      <a:ext cx="1155600" cy="1365840"/>
                      <a:chOff x="2549880" y="4510800"/>
                      <a:chExt cx="1155600" cy="136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2612520" y="4609800"/>
                        <a:ext cx="960840" cy="1266840"/>
                      </a:xfrm>
                      <a:custGeom>
                        <a:avLst/>
                        <a:gdLst>
                          <a:gd name="textAreaLeft" fmla="*/ 46800 w 960840"/>
                          <a:gd name="textAreaRight" fmla="*/ 914040 w 960840"/>
                          <a:gd name="textAreaTop" fmla="*/ 46800 h 1266840"/>
                          <a:gd name="textAreaBottom" fmla="*/ 1220040 h 1266840"/>
                        </a:gdLst>
                        <a:ahLst/>
                        <a:rect l="textAreaLeft" t="textAreaTop" r="textAreaRight" b="textAreaBottom"/>
                        <a:pathLst>
                          <a:path w="21600" h="28476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24876"/>
                            </a:lnTo>
                            <a:arcTo wR="3600" hR="3600" stAng="10800000" swAng="-5400000"/>
                            <a:lnTo>
                              <a:pt x="18000" y="28476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2549880" y="4510800"/>
                        <a:ext cx="1155600" cy="472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8" name=""/>
                    <p:cNvGrpSpPr/>
                    <p:nvPr/>
                  </p:nvGrpSpPr>
                  <p:grpSpPr>
                    <a:xfrm>
                      <a:off x="5030280" y="4510800"/>
                      <a:ext cx="1287720" cy="1365840"/>
                      <a:chOff x="5030280" y="4510800"/>
                      <a:chExt cx="1287720" cy="1365840"/>
                    </a:xfrm>
                  </p:grpSpPr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5142240" y="4609800"/>
                        <a:ext cx="1070640" cy="1266840"/>
                      </a:xfrm>
                      <a:custGeom>
                        <a:avLst/>
                        <a:gdLst>
                          <a:gd name="textAreaLeft" fmla="*/ 52200 w 1070640"/>
                          <a:gd name="textAreaRight" fmla="*/ 1018440 w 1070640"/>
                          <a:gd name="textAreaTop" fmla="*/ 52200 h 1266840"/>
                          <a:gd name="textAreaBottom" fmla="*/ 1214640 h 1266840"/>
                        </a:gdLst>
                        <a:ahLst/>
                        <a:rect l="textAreaLeft" t="textAreaTop" r="textAreaRight" b="textAreaBottom"/>
                        <a:pathLst>
                          <a:path w="21600" h="25557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21957"/>
                            </a:lnTo>
                            <a:arcTo wR="3600" hR="3600" stAng="10800000" swAng="-5400000"/>
                            <a:lnTo>
                              <a:pt x="18000" y="25557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5030280" y="4510800"/>
                        <a:ext cx="1287720" cy="472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1" name=""/>
                    <p:cNvGrpSpPr/>
                    <p:nvPr/>
                  </p:nvGrpSpPr>
                  <p:grpSpPr>
                    <a:xfrm>
                      <a:off x="3168720" y="4523040"/>
                      <a:ext cx="2373120" cy="906120"/>
                      <a:chOff x="3168720" y="4523040"/>
                      <a:chExt cx="2373120" cy="906120"/>
                    </a:xfrm>
                  </p:grpSpPr>
                  <p:grpSp>
                    <p:nvGrpSpPr>
                      <p:cNvPr id="182" name=""/>
                      <p:cNvGrpSpPr/>
                      <p:nvPr/>
                    </p:nvGrpSpPr>
                    <p:grpSpPr>
                      <a:xfrm>
                        <a:off x="3168720" y="4524120"/>
                        <a:ext cx="2373120" cy="905040"/>
                        <a:chOff x="3168720" y="4524120"/>
                        <a:chExt cx="2373120" cy="905040"/>
                      </a:xfrm>
                    </p:grpSpPr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5040360" y="4524120"/>
                          <a:ext cx="501480" cy="894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>
                          <a:off x="3168720" y="4535280"/>
                          <a:ext cx="501480" cy="893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3669840" y="4523040"/>
                        <a:ext cx="1378080" cy="1080"/>
                      </a:xfrm>
                      <a:prstGeom prst="line">
                        <a:avLst/>
                      </a:prstGeom>
                      <a:ln w="50760">
                        <a:solidFill>
                          <a:srgbClr val="73737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86" name=""/>
                  <p:cNvSpPr/>
                  <p:nvPr/>
                </p:nvSpPr>
                <p:spPr>
                  <a:xfrm>
                    <a:off x="2466720" y="4795920"/>
                    <a:ext cx="355320" cy="78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9961" y="0"/>
                        </a:lnTo>
                        <a:lnTo>
                          <a:pt x="19961" y="1996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6024600" y="4795920"/>
                    <a:ext cx="355320" cy="78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61" y="0"/>
                        </a:moveTo>
                        <a:lnTo>
                          <a:pt x="0" y="0"/>
                        </a:lnTo>
                        <a:lnTo>
                          <a:pt x="0" y="1996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" name=""/>
                <p:cNvSpPr/>
                <p:nvPr/>
              </p:nvSpPr>
              <p:spPr>
                <a:xfrm>
                  <a:off x="3791880" y="4622400"/>
                  <a:ext cx="11930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apír nebo tenká vrstv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864960" y="4076640"/>
                <a:ext cx="148932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ástřik směs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195640" y="4436280"/>
              <a:ext cx="334440" cy="6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02320" y="4399200"/>
              <a:ext cx="44568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aminokyse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bstituční deriváty karboxylových kyse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minoskupina NH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rboxylová skupina 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ětšina přírodních aminokyselin jsou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K (karboxyl i aminoskupina jsou na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hlí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    5       4        3           2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284720" y="5229360"/>
          <a:ext cx="36003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5229360"/>
                    <a:ext cx="36003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547640" y="4869000"/>
          <a:ext cx="1584360" cy="11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869000"/>
                    <a:ext cx="158436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ové uspořádání 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minokyseliny jsou opticky aktivní látky  (stáčí rovinu polarizovaného svět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romě glycinu mají všechny AK 4 různé substituenty na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hlíku →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rální centru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ožné stereoisomery (enantiomery): L a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 bílkovinách se vyskytují pouze L-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AK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L-A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372360" y="5084640"/>
          <a:ext cx="165564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5084640"/>
                    <a:ext cx="165564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268360" y="5013360"/>
          <a:ext cx="1584360" cy="13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5013360"/>
                    <a:ext cx="158436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ázvosloví aminokyse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491920"/>
            <a:ext cx="7859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viální náz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á AK má svoji třípísmennou zkrat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3928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Glycin (Gly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lanin (Al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124000" y="2708280"/>
          <a:ext cx="108108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708280"/>
                    <a:ext cx="108108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124000" y="5013360"/>
          <a:ext cx="1295640" cy="112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013360"/>
                    <a:ext cx="129564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156360" y="2781360"/>
          <a:ext cx="1727280" cy="11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6360" y="2781360"/>
                    <a:ext cx="172728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227640" y="5157720"/>
          <a:ext cx="2189160" cy="10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7640" y="5157720"/>
                    <a:ext cx="218916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356000" y="1916280"/>
            <a:ext cx="40388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alin (Val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- esenciál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ucin (Leu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- esenciál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dnotlivé aminokyseliny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polární aminokysel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dnotlivé aminokyseliny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polární aminokysel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68360" y="5013360"/>
          <a:ext cx="158436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5013360"/>
                    <a:ext cx="15843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050920" y="2781360"/>
          <a:ext cx="2195640" cy="106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2781360"/>
                    <a:ext cx="219564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12000" y="2708280"/>
          <a:ext cx="2447640" cy="105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2708280"/>
                    <a:ext cx="244764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684360" y="1916280"/>
            <a:ext cx="40384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soleucin (Il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- esenciál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lin (Pro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916280"/>
            <a:ext cx="40384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enylalanin (Ph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- esenciál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ryptofan (Trp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- esenciál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64000" y="5084640"/>
          <a:ext cx="3203640" cy="158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5084640"/>
                    <a:ext cx="320364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dnotlivé aminokyseliny</a:t>
            </a:r>
            <a:br>
              <a:rPr sz="48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polární aminokysel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276640"/>
            <a:ext cx="403848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ethionin (Me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- esenciál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68360" y="3141720"/>
          <a:ext cx="295308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141720"/>
                    <a:ext cx="295308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dnotlivé aminokyseliny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ární aminokysel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1916280"/>
            <a:ext cx="40384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yrosin (Tyr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erin (Ser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7640" y="1916280"/>
            <a:ext cx="40384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reonin (Thr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- esenciál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ystein (Cy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47640" y="2708280"/>
          <a:ext cx="288000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708280"/>
                    <a:ext cx="28800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979640" y="4941720"/>
          <a:ext cx="1893960" cy="107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4941720"/>
                    <a:ext cx="1893960" cy="10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372360" y="2708280"/>
          <a:ext cx="1608120" cy="105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72360" y="2708280"/>
                    <a:ext cx="16081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372360" y="5013360"/>
          <a:ext cx="1871640" cy="107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72360" y="5013360"/>
                    <a:ext cx="187164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9:15:20Z</dcterms:created>
  <dc:creator>FEL</dc:creator>
  <dc:description/>
  <dc:language>en-US</dc:language>
  <cp:lastModifiedBy>Mudrochova</cp:lastModifiedBy>
  <dcterms:modified xsi:type="dcterms:W3CDTF">2007-07-18T11:33:45Z</dcterms:modified>
  <cp:revision>28</cp:revision>
  <dc:subject/>
  <dc:title>Aminokyseliny </dc:title>
</cp:coreProperties>
</file>