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31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61.wmf" ContentType="image/x-wmf"/>
  <Override PartName="/ppt/media/image24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FE8-6973-491F-B70B-F97D1C77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42E-D617-431E-9B7E-94E790C4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E98-61B6-463D-8F71-8DDDDC88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515-BAF9-42C9-BF58-2A0E05B3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7A7-9106-48A5-A41D-C1F3760B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E4B-3DC9-4854-A685-C13F3F64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36D-B388-4928-82B7-E1427371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BA7-F5DF-4C7D-8C92-A89F7703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4F8-0727-46A2-89F7-4E2312CD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45A-1A15-406D-B086-B228646E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4A4-CCBB-414E-8BCC-9C13646D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C134-22B4-4C25-96F2-A0A3A97F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F0B4-79BE-44D2-A000-48E9AD47C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SACHARI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nosacharidy lze považovat za oxidační produkty vícesytných alkoholů – vznikají dehydrogenací alkoholov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lyceraldehy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glycerol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dihydroxyac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3429000"/>
          <a:ext cx="8604000" cy="24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429000"/>
                    <a:ext cx="8604000" cy="24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ALDOS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lyhydroxyaldehyd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druhém uhlíku je asymetrické centrum, které umožňuje vznik dvou izomerních forem glyceraldehydu. Od D- a L- glyceraldehydu se odvozují další aldosy tak, že se mezi aldehydovou skupinu a sekundární alkoholickou skupinu na druhém uhlíku vsune další sekundární alkoholická skup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116000" y="3284640"/>
          <a:ext cx="160956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160956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940360" y="3213000"/>
          <a:ext cx="198756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213000"/>
                    <a:ext cx="19875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87280" y="115920"/>
          <a:ext cx="7488360" cy="664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5920"/>
                    <a:ext cx="7488360" cy="66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charidy, které se liší pouze konfigurací na jediném uhlíkovém atomu se nazývají epim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19280" y="2276640"/>
          <a:ext cx="1247760" cy="31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124776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924360" y="2349360"/>
          <a:ext cx="151272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2349360"/>
                    <a:ext cx="151272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732720" y="2349360"/>
          <a:ext cx="1439640" cy="30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2349360"/>
                    <a:ext cx="14396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50920" y="2421000"/>
          <a:ext cx="1079280" cy="29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2421000"/>
                    <a:ext cx="10792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worthovy projekční vz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scherovy acyklické vzorce nevystihují přesně strukturu a vlastnosti monosacharid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lekuly monosacharidů jsou cyklické, aldehydová (ketonová) skupina se přiblíží k některé ze sekundárních hydroxylových skupin a zreaguje s ní za vzniku poloacetalové vaz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charidy s šestičlenným kruhem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yran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charidy s pětičlenným kruhem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uran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195640" y="5084640"/>
          <a:ext cx="1204920" cy="16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5084640"/>
                    <a:ext cx="120492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076720" y="5184720"/>
          <a:ext cx="125748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5184720"/>
                    <a:ext cx="12574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aworthovy vz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2781360"/>
          <a:ext cx="14123880" cy="28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1412388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nik poloacet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11280" y="2781360"/>
          <a:ext cx="129528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781360"/>
                    <a:ext cx="12952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340000" y="2637000"/>
          <a:ext cx="3268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637000"/>
                    <a:ext cx="326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71640" y="1916280"/>
          <a:ext cx="1909800" cy="208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1916280"/>
                    <a:ext cx="190980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56000" y="2781360"/>
          <a:ext cx="1152720" cy="24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56000" y="2781360"/>
                    <a:ext cx="115272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508720" y="1916280"/>
          <a:ext cx="3417840" cy="207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8720" y="1916280"/>
                    <a:ext cx="341784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vě struktury, které se liší pouze orientací poloacetalového hydroxylu se nazývaj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nomery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D-glukopyranos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D-glukopyran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1844640"/>
          <a:ext cx="8783640" cy="31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44640"/>
                    <a:ext cx="878364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KETOS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lyhydroxyket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6000" y="-214920"/>
            <a:ext cx="757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oří většinu přírodních organických látek na Z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jich molekuly se skládají z atomů uhlíku, vodíku a kysl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uží jako energetický zdroj v látkovém metabol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í význam také jako stavební materi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ý název – uhlohydrá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hled ke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odvozené od dihydroxyacet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987640" y="2637000"/>
          <a:ext cx="148752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637000"/>
                    <a:ext cx="148752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2195640" y="189000"/>
          <a:ext cx="4576680" cy="60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89000"/>
                    <a:ext cx="457668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-fruktos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D-fruktofuran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2201760"/>
          <a:ext cx="8351640" cy="25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01760"/>
                    <a:ext cx="8351640" cy="25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jednodušený Haworthův vzor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D-glukopyran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987640" y="1528920"/>
          <a:ext cx="2879640" cy="27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528920"/>
                    <a:ext cx="2879640" cy="27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yranosový a furanosový kruh neleží v jedné rovině – C atomy hybridizují v sp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686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yranosový kruh nabývá vaničkové nebo židličkové ko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.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D-glukopyran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16000" y="4365720"/>
          <a:ext cx="2502000" cy="15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65720"/>
                    <a:ext cx="2502000" cy="15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219640" y="4149720"/>
          <a:ext cx="2016360" cy="19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4149720"/>
                    <a:ext cx="201636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stupci monosachari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893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-ribos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součástí nukleotidů v molekule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484360" y="3213000"/>
          <a:ext cx="453564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213000"/>
                    <a:ext cx="45356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2-deoxy-D-rib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5075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oučástí nukleotidů v molekule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835280" y="2133720"/>
          <a:ext cx="5545080" cy="35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133720"/>
                    <a:ext cx="5545080" cy="35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-glukosa 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roznový cuk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chází se ve sladkých plodech, včelím medu, krvi živočic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ábí se  enzymovou hydrolýzou škro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skytuje se většinou v pyranosní form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92360" y="2852640"/>
          <a:ext cx="4897440" cy="28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852640"/>
                    <a:ext cx="4897440" cy="28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-fruktos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vocný cuk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některém ovoci a m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součástí sachar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ztoku je převážně ve furanosní for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700360" y="3789360"/>
          <a:ext cx="324000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789360"/>
                    <a:ext cx="32400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eriváty monosachari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Aminosachari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ukerné kyseli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ukerné est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Glykosi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eoxycuk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ukerné alkoh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chemického hlediska se jedná o deriváty uhlovodíků obsahujících minimálně vždy 2 hydroxylové skupiny – OH a karbonylovou skupin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bonylová skupina může být vázána na krajním atomu uhlíku – aldehydická skupina nebo na vnitřním atomu uhlíku- ketoskupina – podle toho dělíme sacharidy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hydroxyaldehydy –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ld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hydroxyketony -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et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796000" y="1341360"/>
          <a:ext cx="9763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1341360"/>
                    <a:ext cx="9763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1. Aminosachar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ydroxylová skupina je nahrazena aminoskupi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D-glukosami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2-deoxy-2-amino-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D-gluk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součástí chit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780000" y="3587760"/>
          <a:ext cx="2736720" cy="23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587760"/>
                    <a:ext cx="2736720" cy="23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1. Aminosachar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alaktos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vyskytuje se ve složitých polysacharid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700360" y="3500280"/>
          <a:ext cx="2808360" cy="24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500280"/>
                    <a:ext cx="28083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 Cukerné kysel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Kyselina L-askorbov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lakton 2-keto-L-gulonové kysel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antiskorbutický vitami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3645000"/>
          <a:ext cx="4897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645000"/>
                    <a:ext cx="4897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580000" y="3573360"/>
          <a:ext cx="3168720" cy="184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3573360"/>
                    <a:ext cx="316872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yselina L-askorb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-gulos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keto-L-gulonová kyse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kton 2-keto-L-gulonové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ysel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771640" y="981000"/>
          <a:ext cx="106524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981000"/>
                    <a:ext cx="106524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164360" y="2349360"/>
          <a:ext cx="1189080" cy="278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2349360"/>
                    <a:ext cx="1189080" cy="27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68360" y="3860640"/>
          <a:ext cx="1311120" cy="299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860640"/>
                    <a:ext cx="131112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kt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nolform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eto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156360" y="2421000"/>
          <a:ext cx="16174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421000"/>
                    <a:ext cx="16174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042920" y="2492280"/>
          <a:ext cx="1773360" cy="331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492280"/>
                    <a:ext cx="17733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kt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ktony vznikají odštěpením vody z některých hydroxykyse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=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=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yselina D-mannonov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mannolak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900000" y="2492280"/>
          <a:ext cx="3024360" cy="29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92280"/>
                    <a:ext cx="302436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508720" y="2421000"/>
          <a:ext cx="1481040" cy="304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2421000"/>
                    <a:ext cx="148104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Cukerné es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ají reakcí na hydroxylové skupi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á se o důležité metabolické produk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methyle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estery kyseliny oc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) methyles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362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39640" y="2205000"/>
          <a:ext cx="475308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05000"/>
                    <a:ext cx="475308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012000" y="2133720"/>
          <a:ext cx="2160360" cy="36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2133720"/>
                    <a:ext cx="216036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) Estery kyseliny octov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358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26920" y="1341360"/>
          <a:ext cx="511200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341360"/>
                    <a:ext cx="51120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187280" y="5122800"/>
          <a:ext cx="5472360" cy="15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122800"/>
                    <a:ext cx="547236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6012000" y="1413000"/>
          <a:ext cx="1858680" cy="33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413000"/>
                    <a:ext cx="185868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 Glykos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ají reakcí reaktivního poloacetalového hydroxy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chází k navázání necukerné složky glykosidickou vazb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áže-li se alkohol vznikají O-glyko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áže.li se amin vznikají N-glykosi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y aldos a ke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ldos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Ke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979640" y="2492280"/>
          <a:ext cx="482436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492280"/>
                    <a:ext cx="482436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-glykos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686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jednodušší = methyl-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D-gluko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979640" y="2565360"/>
          <a:ext cx="5184720" cy="26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65360"/>
                    <a:ext cx="5184720" cy="26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) N-glykos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915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součástí nukleových kyse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eno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843280" y="2421000"/>
          <a:ext cx="245412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421000"/>
                    <a:ext cx="245412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5. Deoxycuk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D-rib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-deoxy-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D-rib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484360" y="1700280"/>
          <a:ext cx="2808360" cy="19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700280"/>
                    <a:ext cx="280836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284720" y="4200480"/>
          <a:ext cx="3166920" cy="22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00480"/>
                    <a:ext cx="316692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 Cukerné alkoh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686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-gluko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D-sor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547640" y="2421000"/>
          <a:ext cx="604872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04872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Oligosacharid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charidy složené ze dvou až deseti molekul monosacharidů vázaných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lykosidickou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azb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le počtu monosacharidových jednotek rozlišujeme disacharidy, trisacharidy a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ělení oligosachari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14716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dukujíc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maltosový typ) – glykosidická vazba mezi C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redukujíc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trehalosový typ) – glykosidická vazba mezi C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klad redukujícího disacharid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 poloacetalový hydroxyl není zapojen do vaz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332000" y="2349360"/>
          <a:ext cx="619272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349360"/>
                    <a:ext cx="61927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692360" y="4479840"/>
          <a:ext cx="5759280" cy="204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479840"/>
                    <a:ext cx="5759280" cy="20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íklad neredukujícího disacharid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826920" y="2049480"/>
          <a:ext cx="7561440" cy="18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49480"/>
                    <a:ext cx="756144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2916360" y="4203720"/>
          <a:ext cx="5616360" cy="195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4203720"/>
                    <a:ext cx="561636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kující disachari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ltosa – sladový cuk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-glukosa + D-glukosa (vazb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476360" y="3357720"/>
          <a:ext cx="5904000" cy="21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357720"/>
                    <a:ext cx="5904000" cy="21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kující disachari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ktosa – mléčný cuk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-galaktosa + D-glukosa (vazb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826920" y="2637000"/>
          <a:ext cx="4896000" cy="19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637000"/>
                    <a:ext cx="48960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124000" y="4732200"/>
          <a:ext cx="4537080" cy="212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732200"/>
                    <a:ext cx="453708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ělení sachari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le počtu uhlíkových ato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ukry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osacharidy – obsahují 3-7 uhl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ligosachari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ysachar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kující disachari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lobiosa – stavební jednotka celul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d-glukosa + D-glukosa (vazb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332000" y="3098880"/>
          <a:ext cx="6624720" cy="24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098880"/>
                    <a:ext cx="662472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redukující disachari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glykosidické vazby mezi C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dné molekuly a C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druhé aldosy nebo C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et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acharosa – řepný nebo třtinový cuk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glukosa +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fruk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258920" y="3141720"/>
          <a:ext cx="242892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141720"/>
                    <a:ext cx="242892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887640" y="3789360"/>
          <a:ext cx="5256360" cy="203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7640" y="3789360"/>
                    <a:ext cx="525636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ysachar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charidy složené z více než deseti molekul monosacharidů vázaných glykosidickou vazb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mají redukční vlastnosti, protože glykosidické vazby vznikají mezi poloacetalovými hydroxy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 rostliná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ako podpůrné substance (celulosa) nebo jako rezervní látky v semenech a hlízách (škro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 živočišné říš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podpůrné funkce vzácná (chitin), rezervní látka (glyko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zdělení polysacharidů podle chemického slož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moglykan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základní stavební jednotkou jsou pouze monosachar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teroglykan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 složeny ze 2-3 různých stavebních kame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ložené sloučenin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glykoproteiny, glykolip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vební polysachar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748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ulo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uží k výrobě viskózového hedvábí, celofánu a celuloi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znamné jsou estery acetáty a nitráty celul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00000" y="3157560"/>
          <a:ext cx="7775640" cy="32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157560"/>
                    <a:ext cx="777564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vební polysachar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hi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vební jednotkou je N-acetylglukosamin (vazb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D - 1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258920" y="3527280"/>
          <a:ext cx="712944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527280"/>
                    <a:ext cx="712944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ásobní polysachar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Škr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kytuje se v semenech, hlíz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tvořen dvěmi složk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myl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základní stavební jednotkou je mal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etězec je stočen do šroubo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rozpouští se ve studené vod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mylopek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tvená molekula pomocí vaze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pouští se ve studené vod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ásobní polysachar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lyk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ivočišný škr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ukturou připomíná amylopektin, ale je větvenější as má vyšší molekulovou hmot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alový glykogen M = 1 mi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terní glykogen M = 5 milio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189000"/>
            <a:ext cx="9143280" cy="6406560"/>
            <a:chOff x="0" y="189000"/>
            <a:chExt cx="9143280" cy="6406560"/>
          </a:xfrm>
        </p:grpSpPr>
        <p:cxnSp>
          <p:nvCxnSpPr>
            <p:cNvPr id="55" name="_s79895"/>
            <p:cNvCxnSpPr>
              <a:stCxn id="56" idx="0"/>
              <a:endCxn id="57" idx="2"/>
            </p:cNvCxnSpPr>
            <p:nvPr/>
          </p:nvCxnSpPr>
          <p:spPr>
            <a:xfrm flipV="1" rot="16200000">
              <a:off x="5530680" y="1791360"/>
              <a:ext cx="1281600" cy="3200760"/>
            </a:xfrm>
            <a:prstGeom prst="bentConnector3">
              <a:avLst>
                <a:gd name="adj1" fmla="val 80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79894"/>
            <p:cNvCxnSpPr>
              <a:stCxn id="59" idx="0"/>
              <a:endCxn id="57" idx="2"/>
            </p:cNvCxnSpPr>
            <p:nvPr/>
          </p:nvCxnSpPr>
          <p:spPr>
            <a:xfrm flipV="1">
              <a:off x="4571280" y="2751120"/>
              <a:ext cx="3240" cy="128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79893"/>
            <p:cNvCxnSpPr>
              <a:stCxn id="61" idx="0"/>
              <a:endCxn id="57" idx="2"/>
            </p:cNvCxnSpPr>
            <p:nvPr/>
          </p:nvCxnSpPr>
          <p:spPr>
            <a:xfrm flipH="1" flipV="1" rot="5400000">
              <a:off x="2331720" y="1792800"/>
              <a:ext cx="1281600" cy="3197880"/>
            </a:xfrm>
            <a:prstGeom prst="bentConnector3">
              <a:avLst>
                <a:gd name="adj1" fmla="val 80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79889"/>
            <p:cNvSpPr/>
            <p:nvPr/>
          </p:nvSpPr>
          <p:spPr>
            <a:xfrm>
              <a:off x="3200040" y="189000"/>
              <a:ext cx="2742840" cy="2562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G Times"/>
                </a:rPr>
                <a:t>Cuk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79890"/>
            <p:cNvSpPr/>
            <p:nvPr/>
          </p:nvSpPr>
          <p:spPr>
            <a:xfrm>
              <a:off x="0" y="4033080"/>
              <a:ext cx="2742840" cy="2562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000000"/>
                  </a:solidFill>
                  <a:latin typeface="CG Times"/>
                </a:rPr>
                <a:t>Monosacharid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Pentos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CG Time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aldotetros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CG Time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aldopentos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CG Time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aldohexos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Ketos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       </a:t>
              </a: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-ketotetros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       </a:t>
              </a: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-ketopentos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       </a:t>
              </a: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-ketohexosy</a:t>
              </a: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79891"/>
            <p:cNvSpPr/>
            <p:nvPr/>
          </p:nvSpPr>
          <p:spPr>
            <a:xfrm>
              <a:off x="3200040" y="4033080"/>
              <a:ext cx="2742840" cy="2562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000000"/>
                  </a:solidFill>
                  <a:latin typeface="CG Times"/>
                </a:rPr>
                <a:t>Oligosacharid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-disacharid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-trisacharid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-tetrasacharid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79892"/>
            <p:cNvSpPr/>
            <p:nvPr/>
          </p:nvSpPr>
          <p:spPr>
            <a:xfrm>
              <a:off x="6400440" y="4033080"/>
              <a:ext cx="2742840" cy="2562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G Times"/>
                </a:rPr>
                <a:t>Polysacharid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ázvosloví sachari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Obecné názv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pona aldo- nebo keto- + kmen řecké číslovky vyjadřující počet uhlíkových atomů + přípona –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. Aldotetrosa = aldehydický cukr se čtyřmi uhlí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MONOSACHARI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scherovy vzorce monosachari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ldotetros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etohex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26920" y="2492280"/>
          <a:ext cx="13449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92280"/>
                    <a:ext cx="13449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716360" y="2421000"/>
          <a:ext cx="125424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421000"/>
                    <a:ext cx="12542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48:26Z</dcterms:created>
  <dc:creator>Mudrochova</dc:creator>
  <dc:description/>
  <dc:language>en-US</dc:language>
  <cp:lastModifiedBy>Mudrochova</cp:lastModifiedBy>
  <dcterms:modified xsi:type="dcterms:W3CDTF">2007-10-16T09:06:37Z</dcterms:modified>
  <cp:revision>77</cp:revision>
  <dc:subject/>
  <dc:title>SACHARIDY</dc:title>
</cp:coreProperties>
</file>