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9776-859C-40DD-9827-62A1CB1FBD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0230-CFEF-4113-B7DB-BFC0DA5E87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370B-FE5E-4963-9A60-4782FAFD22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FE63-BDA9-49CF-9D36-DC5A0884F7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E9FD-40A8-4219-9189-49AC2AAEA6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60E3-3200-4704-9896-68DD87D01D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AAAF-3D0E-4C7C-9137-C782602780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40B-41BB-43C6-997F-C0553DA363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6996-15FE-4E49-B612-68171FF4FC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729D-E0A1-4B7F-834B-7D6400F928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B00E-CD37-44F1-84B9-E3E1EA20C3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C2B0-4037-4606-916F-88844457C6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F9CE-E83A-4EFF-ACCA-C0DDBA1FBB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B9B2-2220-4D00-8FDE-4298F823DF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79AC-C8D4-4A1C-A8B7-37ED1256F7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D501-BC7B-4C51-9159-1CF7C6FB8F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FD3C-A710-4B32-859F-CF602D70FA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383C-8D47-4C9D-BC56-9188CE4BAD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7AF4-30A4-4A6D-84E7-01ABF3C912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6DD-803D-4705-81C2-AF241EA8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134-55D4-4C7A-8832-92069E75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A4E-B5CA-484E-A5C3-AA372AC7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A57-C4D0-424B-B916-186A8798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4BF-D1E8-4C37-AECB-3F572191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2BE-3106-4FE9-8FE3-8D48F24C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9B6-1446-45FF-ADB0-7AC74736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4C6-49D0-4C73-9244-D846635E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9D2-BEA5-4B5A-A021-5DA4CC22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86E-A73C-4F17-AB06-DFF20CE7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AA9-2AD8-402D-86BB-178362A2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8B7-C946-495A-80A6-8738993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9135-A1C6-49AE-9563-DD9464CF61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000000"/>
                </a:solidFill>
                <a:latin typeface="BankGothic Lt BT"/>
              </a:rPr>
              <a:t>karbonylov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sloučen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80360" y="6308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adeáš Bil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BankGothic Lt BT"/>
              </a:rPr>
              <a:t>Charakteristické reak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68360" y="1341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Oxo-enol (keto-enol) tautom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3635280" y="1413000"/>
          <a:ext cx="5112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413000"/>
                    <a:ext cx="5112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6"/>
          <p:cNvSpPr/>
          <p:nvPr/>
        </p:nvSpPr>
        <p:spPr>
          <a:xfrm>
            <a:off x="5003640" y="2349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659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059280" y="1989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cetaldeh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236000" y="1989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nylalk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59280" y="4437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7093080" y="450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propen-2-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BankGothic Lt BT"/>
              </a:rPr>
              <a:t>Charakteristické reak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341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1. Oxidace a redukce aldehy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15"/>
          <p:cNvGraphicFramePr/>
          <p:nvPr/>
        </p:nvGraphicFramePr>
        <p:xfrm>
          <a:off x="324000" y="2492280"/>
          <a:ext cx="8353440" cy="16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3534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16"/>
          <p:cNvSpPr/>
          <p:nvPr/>
        </p:nvSpPr>
        <p:spPr>
          <a:xfrm>
            <a:off x="2556000" y="2349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B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435640" y="2349360"/>
            <a:ext cx="151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2484360" y="3357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u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5724360" y="32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xid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5867280" y="4221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5867280" y="407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karboxylových kys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11280" y="407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primárních alkoh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95280" y="4941720"/>
            <a:ext cx="835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Redukce ketonů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vznik sekundárních alkoh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Oxidace ketonů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nesnadná, neprobíhá vůbec nebo je destruktivní a dochází ke štěpení molekuly ketonu a vzniku dvou oxidačních produktů (kyselina + aldehyd, kyselina + kyselina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BankGothic Lt BT"/>
              </a:rPr>
              <a:t>Charakteristické reak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68360" y="549360"/>
            <a:ext cx="338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2. Nukleofilní adice A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39640" y="90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dice alkoholu za vzniku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oloacetal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reakcí s další molekulou alkoholu vzniká eliminací vody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cetal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27"/>
          <p:cNvGraphicFramePr/>
          <p:nvPr/>
        </p:nvGraphicFramePr>
        <p:xfrm>
          <a:off x="684360" y="1700280"/>
          <a:ext cx="784836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8483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867280" y="4221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9640" y="177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znik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oloacetal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je zejména významný u sacharidů a je příčinou vzniku jejich cyklické struktury, která má zásadní biologický výz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1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6481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611280" y="28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robně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632720" cy="1020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4032360" cy="10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4608720" cy="1452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4"/>
          <a:stretch/>
        </p:blipFill>
        <p:spPr>
          <a:xfrm>
            <a:off x="2124000" y="5084640"/>
            <a:ext cx="6551640" cy="1673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4284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7928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619280" y="530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95280" y="260280"/>
            <a:ext cx="8353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ldolová kondenza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probíhá u aldehydů nebo ketonů, které mají alespoň jeden vodík na 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uhlíku; účinkem zásad vzniká z jedné molekuly aldehydu karbaniont(-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HO), který se aduje na karbonylovou skupinu druhé moleku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BankGothic Lt BT"/>
              </a:rPr>
              <a:t>Charakteristické reak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867280" y="4221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39640" y="177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olymerace aldehydů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opakovaná adice, cyklická (vznik trimeru) nebo lineár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39640" y="270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3. Adičně-eliminační reakce (kondenz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611280" y="3357720"/>
          <a:ext cx="547344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57720"/>
                    <a:ext cx="547344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9"/>
          <p:cNvSpPr/>
          <p:nvPr/>
        </p:nvSpPr>
        <p:spPr>
          <a:xfrm>
            <a:off x="395280" y="51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zaldeh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835280" y="479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hyl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4427640" y="5229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nzylidenmethyl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BankGothic Lt BT"/>
              </a:rPr>
              <a:t>Významné aldehy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867280" y="4221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9640" y="1773360"/>
            <a:ext cx="83534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Formaldehyd (metha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tiplavě páchnoucí plyn, jedovatý, karcinogen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zpustný ve vodě (40% roztok = formalin – desinfekční a konzervační činidlo pro uchování tk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lymer (tetramer) = pevný líh, fenolformaldehydové pryskyřice – bakelit, laky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4076640"/>
            <a:ext cx="83534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cetaldehyd (etha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jemně vonící kapalina, meziprodukt alkoholového kva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eto forma ethen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acharidu jsou obecně aldehydy nebo ketony, glyceraldehyd je základem sacharid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BankGothic Lt BT"/>
              </a:rPr>
              <a:t>Významné ketony a chin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867280" y="4221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11280" y="119700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ceton (propan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znamné rozpouště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roba – oxidace kumenu(destruktivní) nebo propan-2-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zniká při hladovění a cukrovce dekarboxylací kyseliny acetoct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11280" y="3573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Benzaldeh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apalina, vůně hořkých mand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11280" y="429264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benzochi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bichinon (koenzym Q v dýchacím řetěz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11280" y="2781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yklohex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oučást silic, výroba sil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11280" y="5157720"/>
            <a:ext cx="83534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Chinony obec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roba barviv (chromofory, auxochromy- -OH, -S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, N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posun barevn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ůkazy aldehy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39640" y="1341360"/>
            <a:ext cx="712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iffovo čini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zbarvý roztok (červené barvivo fuchsin se odbarví hydrogensiřičitanem, siřičitanem nebo oxidem siřičitým), reakcí s aldehydem se obnoví původní barevnost fuchs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6943680" cy="1519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468360" y="4149720"/>
            <a:ext cx="712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ehlingovo čini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uje díky redukčním vlastnostem aldehydů, vyloučení oranžovo-červeného oxidu mědného nebo elementární mě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68360" y="5373720"/>
            <a:ext cx="712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llensovo čini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é založeno na redukčních vlastnostech aldehydů, vyloučení stříbrného zrcátka nebo černého stří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4920" y="1341000"/>
            <a:ext cx="230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332000" y="227664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KARBONYLOVÉ SLOUČENINY</a:t>
            </a: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9999"/>
                </a:solidFill>
                <a:latin typeface="Verdana"/>
              </a:rPr>
              <a:t>neboli OXOSLOUČEN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332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harakter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627280" y="357336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riváty uhlovodíků obsahující karbonylovou skupinu C=O, která je polární vzhledem k větší elektronegativitě kyslíku. Důsledkem je vznik určitého přebytku kladného náboje na uhlíkovém atomu, proto tyto sloučeniny podléhají zvláště reakcím iniciovaným nukleofilními čini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200" y="436572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1042920" y="4510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104292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403280" y="43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 flipV="1">
            <a:off x="538200" y="414936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538200" y="465444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619280" y="4222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89856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4920" y="1341000"/>
            <a:ext cx="230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332000" y="2276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KARBONYLOVÉ SLOUČENINY</a:t>
            </a: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z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627280" y="3573360"/>
            <a:ext cx="58323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ldehyd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RCH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Keton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O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hinon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nenasycené cyklické ket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5"/>
          <p:cNvGraphicFramePr/>
          <p:nvPr/>
        </p:nvGraphicFramePr>
        <p:xfrm>
          <a:off x="5148360" y="3141720"/>
          <a:ext cx="91764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141720"/>
                    <a:ext cx="917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6"/>
          <p:cNvGraphicFramePr/>
          <p:nvPr/>
        </p:nvGraphicFramePr>
        <p:xfrm>
          <a:off x="1692360" y="4076640"/>
          <a:ext cx="87624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076640"/>
                    <a:ext cx="8762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Názvosloví (IUPAC 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</a:rPr>
              <a:t>'</a:t>
            </a: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32000" y="1484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ALDEHYDY</a:t>
            </a: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24000" y="1989000"/>
            <a:ext cx="813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 aldehydickou skupinu (nebo 2 skupiny) v hlavním řetěz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ípona -al (-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492360" y="3933720"/>
            <a:ext cx="496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-li aldehydická skupina vázána na cyklický uhlíkatý skelet nebo je-li přítomno více aldehydických skup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ípona –karbaldehyd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atomy uhlíku v ald. skupině se nezapočítávají do hl. řetězce, uvedou se lok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9"/>
          <p:cNvGraphicFramePr/>
          <p:nvPr/>
        </p:nvGraphicFramePr>
        <p:xfrm>
          <a:off x="4140360" y="2565360"/>
          <a:ext cx="46083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565360"/>
                    <a:ext cx="4608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10"/>
          <p:cNvSpPr/>
          <p:nvPr/>
        </p:nvSpPr>
        <p:spPr>
          <a:xfrm>
            <a:off x="4932360" y="314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ta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1"/>
          <p:cNvGraphicFramePr/>
          <p:nvPr/>
        </p:nvGraphicFramePr>
        <p:xfrm>
          <a:off x="395280" y="3500280"/>
          <a:ext cx="273672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500280"/>
                    <a:ext cx="273672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2"/>
          <p:cNvSpPr/>
          <p:nvPr/>
        </p:nvSpPr>
        <p:spPr>
          <a:xfrm>
            <a:off x="250920" y="6021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tan-1,2,3-trikarbaldeh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Názvosloví (IUPAC 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</a:rPr>
              <a:t>'</a:t>
            </a: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332000" y="1484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ALDEHYDY</a:t>
            </a: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95280" y="198900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-li v molekule jiná nadřazená funkční skupina (např. COOH), přítomnost aldehydické funkční skupiny se vyjadř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dponou oxo-, pokud ald. uhlík patří do hlavního řetěz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dponou formyl-, pokud ho do hlavního řetězce nezapočítáv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Názvosloví (IUPAC 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</a:rPr>
              <a:t>'</a:t>
            </a: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32000" y="1484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KETONY</a:t>
            </a: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95280" y="198900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ubstituční princip: název uhlovodíku +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ípona –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je v molekule přítomná nadřazená funkční skupina: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dpona ox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95280" y="3573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zvy ketonů je také možné tvořit z abecedně seřazených názvů alkylů vázaných na ketonovou funkční skupinu a připojením skupinového názvu ke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64000" y="50133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hyl(methyl)k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0"/>
          <p:cNvGraphicFramePr/>
          <p:nvPr/>
        </p:nvGraphicFramePr>
        <p:xfrm>
          <a:off x="3851280" y="4581360"/>
          <a:ext cx="3168720" cy="18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4581360"/>
                    <a:ext cx="3168720" cy="18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Názvosloví (IUPAC </a:t>
            </a:r>
            <a:r>
              <a:rPr b="0" lang="en-US" sz="4400" spc="-1" strike="noStrike">
                <a:solidFill>
                  <a:srgbClr val="000000"/>
                </a:solidFill>
                <a:latin typeface="BankGothic Lt BT"/>
              </a:rPr>
              <a:t>'</a:t>
            </a:r>
            <a:r>
              <a:rPr b="0" lang="cs-CZ" sz="4400" spc="-1" strike="noStrike">
                <a:solidFill>
                  <a:srgbClr val="000000"/>
                </a:solidFill>
                <a:latin typeface="BankGothic Lt BT"/>
              </a:rPr>
              <a:t>9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32000" y="1484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KETONY</a:t>
            </a: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95280" y="1989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-li součástí molekuly ketonu fenyl nebo naftyl, název ketonu je složen z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kmene acyl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skupina R-CO-) a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akončen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–ofeno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o fenyl neb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–onafto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o nafty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835280" y="45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iofe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8"/>
          <p:cNvGraphicFramePr/>
          <p:nvPr/>
        </p:nvGraphicFramePr>
        <p:xfrm>
          <a:off x="2050920" y="2924280"/>
          <a:ext cx="583416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924280"/>
                    <a:ext cx="58341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9"/>
          <p:cNvSpPr/>
          <p:nvPr/>
        </p:nvSpPr>
        <p:spPr>
          <a:xfrm>
            <a:off x="5796000" y="45799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acetonaf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0"/>
          <p:cNvGraphicFramePr/>
          <p:nvPr/>
        </p:nvGraphicFramePr>
        <p:xfrm>
          <a:off x="395280" y="4941720"/>
          <a:ext cx="82404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941720"/>
                    <a:ext cx="8240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11"/>
          <p:cNvSpPr/>
          <p:nvPr/>
        </p:nvSpPr>
        <p:spPr>
          <a:xfrm>
            <a:off x="1258920" y="5589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nz-1,4-chi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PŘÍPRAVA A VÝR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1484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Aldehydy, ketony, chinony</a:t>
            </a:r>
            <a:r>
              <a:rPr b="0" lang="cs-CZ" sz="1800" spc="-1" strike="noStrike">
                <a:solidFill>
                  <a:srgbClr val="0099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95280" y="1989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arbonylové sloučeniny se zpravidla připravují i vyrábějí podobným způsobem, oxidací alkoholů (viz reak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5280" y="2997360"/>
            <a:ext cx="806436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říprav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H + 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HO + 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, ox. činidlo např. KMn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v kyselém prostředí. Vzniklý ethanal se musí z reakční směsi odstraňovat destilací, aby se dále neoxidoval na karboxylovou kysel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95280" y="522936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výrob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xidace alkoholů vzduchem v přítomnosti měděného katalyzátoru při teplotě 3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BankGothic Lt BT"/>
              </a:rPr>
              <a:t>VLASTNOSTI A VYUŽI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68360" y="1341360"/>
            <a:ext cx="8064360" cy="27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íky své karbonylové skupině mají aldehydy a ketony polární molekul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ody tání a varu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yšš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ež srovnatelné nepolární molek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ody tání a varu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ižš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ež příslušné alkoholy (netvoří vodíkové můst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harakteristický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áp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omě formaldehydu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bezbarvé kapalin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evné lá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zpustné v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organických rozpouštědlech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a nižší (po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jsou mísitelné s vod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537372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roba plastů, pryskyřic, barviv a pesticid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5:03:57Z</dcterms:created>
  <dc:creator>Tadeáš Bilka</dc:creator>
  <dc:description/>
  <dc:language>en-US</dc:language>
  <cp:lastModifiedBy>Your User Name</cp:lastModifiedBy>
  <dcterms:modified xsi:type="dcterms:W3CDTF">2011-10-11T09:00:13Z</dcterms:modified>
  <cp:revision>13</cp:revision>
  <dc:subject/>
  <dc:title>karbonylové</dc:title>
</cp:coreProperties>
</file>