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6917-4A81-4D11-B4E2-41A5B3FB4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AEB7-0B45-4F72-9C5A-26AC6255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81E9-68DF-4B2D-B939-CE21C071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7875-F183-4479-AD8D-231B464E1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2082-3CA9-42D4-93D4-7622FB89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4D19-8E9C-4872-8822-FDE2036A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6AF7-4F21-48F9-A39F-79C4B5D4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3629-7568-4B07-9C19-156AAD80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6F59-6246-498F-915A-3911C0E5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9629-C2A1-482F-B81D-6FF053B7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6285-12E8-4F7B-9AF6-7E0FCD58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AEBA-7802-40DD-A442-5EF25ACE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DDE9-9D69-416D-97D3-52B58D41D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cs.wikipedia.org/wiki/Soubor:Tzara_by_Tihanyi.jpg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s.wikipedia.org/wiki/Soubor:Morgenstern-h420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oezie v 1. polovině 20. stolet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álka (1914 – 19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říjnová revoluce (Rusko, 191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junktura (20. lé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podářská krize (černý pátek – 192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šismus (1922, 1933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Španělsk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větová válka (1939 – 194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é uspořádání světa (po r. 194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Nové názvy navržené přírod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mpev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gr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rejmysliv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rah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tikaď sam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žik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idamýž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enostoj čtyřprst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ětikrá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udiloď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dkuč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snýš</a:t>
            </a:r>
            <a:br>
              <a:rPr sz="2400"/>
            </a:br>
            <a:br>
              <a:rPr sz="1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Noční rybí zpě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23479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Trychtýř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va trychtýře jdou noční tmou.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ěl jejich úzkou skulinou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udí jas luny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lidně, stále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 cestu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sem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utur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ff"/>
                </a:solidFill>
                <a:latin typeface="Arial"/>
              </a:rPr>
              <a:t>Filippo Tommaso MARINETT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1876 – 194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lupráce s Mussolin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ff"/>
                </a:solidFill>
                <a:latin typeface="Arial"/>
              </a:rPr>
              <a:t>Manifest futurism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1909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1. Chceme opěvovat lásku k nebezpečí, návyk na energii a smělo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2. Základními prvky naší poezie budou odvaha, zmužilost a revol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3. Literatura až dosud velebila myšlenkovou nehybnost, extázi a spánek, my chceme velebit útočný neklid, horečnatou nespavost, poklus, nebezpečný skok, facku a ránu pěst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4. Prohlašujeme, že nádhera světa byla obohacena o novou krásu: o krásu rychlosti. Závodní automobil se svou kapotou ozdobenou tlustými trubkami podobnými hadům s výbušným dechem…, řvoucí automobil, který jako by se řítil po kartáčových nábojích, je krásnější než Niké ze Samothrá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5. (…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6. Básník se musí vybít vášnivě, břeskně a marnotratně, chce-li znásobit nadšené zanícení pro prvotní živly (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Soubor:FilippoTommasoMarinetti.jpg"/>
          <p:cNvPicPr/>
          <p:nvPr/>
        </p:nvPicPr>
        <p:blipFill>
          <a:blip r:embed="rId1"/>
          <a:stretch/>
        </p:blipFill>
        <p:spPr>
          <a:xfrm>
            <a:off x="6732720" y="115920"/>
            <a:ext cx="24112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ff"/>
                </a:solidFill>
                <a:latin typeface="Arial"/>
              </a:rPr>
              <a:t>Guillaume Apollinaire </a:t>
            </a:r>
            <a:r>
              <a:rPr b="1" lang="cs-CZ" sz="3200" spc="-1" strike="noStrike">
                <a:solidFill>
                  <a:srgbClr val="0000ff"/>
                </a:solidFill>
                <a:latin typeface="Arial"/>
              </a:rPr>
              <a:t>(1880 – 19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ancouzský experimentální básník polského půvo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átelství s Picass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ast ve válce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„Stávám se bezmyšlenkovitým automatem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ěť španělské chřip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ff"/>
                </a:solidFill>
                <a:latin typeface="Arial"/>
              </a:rPr>
              <a:t>Alkohol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asoci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ff"/>
                </a:solidFill>
                <a:latin typeface="Arial"/>
              </a:rPr>
              <a:t>Kaligram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vizuální lyris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ff"/>
                </a:solidFill>
                <a:latin typeface="Arial"/>
              </a:rPr>
              <a:t>Pásm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volný proud básníkova vědomí, stírá rozdíl mezi epikou a lyriko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Soubor:Guillaume Apollinaire 1914.jpg"/>
          <p:cNvPicPr/>
          <p:nvPr/>
        </p:nvPicPr>
        <p:blipFill>
          <a:blip r:embed="rId1"/>
          <a:stretch/>
        </p:blipFill>
        <p:spPr>
          <a:xfrm>
            <a:off x="5508720" y="1341360"/>
            <a:ext cx="3228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ff"/>
                </a:solidFill>
                <a:latin typeface="Arial"/>
              </a:rPr>
              <a:t>G. Apollin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i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dyž chtěl člověk napodobit chůzi, vynalezl kolo, které se vůbec nepodobá noze. Tak dospěl k surrealismu, aniž věděl jak.“ (191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40360" y="1844640"/>
            <a:ext cx="23814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3114720" cy="4191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780000" y="2637000"/>
            <a:ext cx="51433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um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udba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G. Mah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lm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S. Ejzenšte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Ch. Chap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L. Buňuel, S. Dalí – Andaluský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ttp://www.csfd.cz/film/1112-andalusky-pes/galeri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tvarné umění - P. Picas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285768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oez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experimentální poez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avantgarda</a:t>
            </a:r>
            <a:r>
              <a:rPr b="0" lang="cs-CZ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etapa ve vývoji moderního umění; antitradicionalismus a společenská revolta; odmítání sociální nespravedlnosti, příklon k extrémistickým politickým hnutí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dadaismu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revolta proti válce, hravý sty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kubism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prostorové koncepci díla, předmět nezobrazuje jen z jednoho úhlu, ale z mnoha úhlů současn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futurism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cílem bylo ukázat moderní uspěchanou a rušnou dobu, námětem byla technika; snaha o rychlost, které dosahovali např. zkratkovitostí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. T. Marinetti, V.V. Majakovskij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expresionism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protiklad impresionismu, naturalismu, vyjádření vlastních prožitků a vlastních pocitů bez ohledu na jakékoli konv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fauvism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vyhraněná forma expresionis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poetism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vznikl v ČSR, všednodennost, hravost, rad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surrealismus -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ělecký směr, ale také životní styl, který usiluje o osvobození mysli, zdůrazňuje podvědomí; snaha zachytit sny, představy, pocity a myšlenky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. Breton, S. Dal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ada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olta skupiny umělců různých národností proti válečným hrůzá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tředek vyjádření zmatku a strachu z vál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hledá žádná východiska (východiskem byl nesmysl), a tak dada sklouzla až k nihilis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ýklad děl byl zcela závislý na adresát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ff"/>
                </a:solidFill>
                <a:latin typeface="Arial"/>
              </a:rPr>
              <a:t>Tristan Tzara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(1896 – 196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7704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ouzský básník rumunského půvo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Cover of the first edition of the publication, Dada. Edited by Tristan Tzara. Zürich, 1917."/>
          <p:cNvPicPr/>
          <p:nvPr/>
        </p:nvPicPr>
        <p:blipFill>
          <a:blip r:embed="rId1"/>
          <a:stretch/>
        </p:blipFill>
        <p:spPr>
          <a:xfrm>
            <a:off x="539640" y="2781360"/>
            <a:ext cx="2482920" cy="2879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Tristan Tzaraautor: Lajos Tihanyi, 192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64000" y="2637000"/>
            <a:ext cx="2143080" cy="3028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227640" y="2708280"/>
            <a:ext cx="2349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ff"/>
                </a:solidFill>
                <a:latin typeface="Arial"/>
              </a:rPr>
              <a:t>Tristan Tza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Návod, jak vytvořit dadaistickou báse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918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změte novin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změte nůžk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jděte v novinách článek, aby měl délku, jakou počítáte dát své bás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Článek vystřihnět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om pečlivě rozstříhejte všechna slova,která tvoří tento článek, a vložte je do pytlík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ládejte pak jeden ústřižek za druhým přesně v pořádku, v jakém vyšly z pytlík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vědomitě opišt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áseň se vám bude podoba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ězte, že jste spisovatel neskonale originální a okouzlující citlivostí, byť doposud nepochopen lid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nons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smyslný, až absurdní text; grafické bás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Arial"/>
              </a:rPr>
              <a:t>Christian MORGENS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ff"/>
                </a:solidFill>
                <a:latin typeface="Arial"/>
              </a:rPr>
              <a:t>(1871 – 19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ěmecký básník, novinář a překlad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akladatel německé nonsensové poez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tudoval dějiny umění a 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ěnoval se žurnalistice, poezii a překladatels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uberkuló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ěhem života malé uzn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3573360"/>
            <a:ext cx="20955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Hymna šibeničních bratř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Ó strašný zmatku žít a pí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s tu teď houpá tenká 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vouk tká sítě za skřehotu žab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 účesů už vítr hrá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o je hymna šibeničních bratří johohóhó To je hymna šibeničních bratř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 hrůzo hrůzo hrůzo siná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i proklet! sova připomín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it hvězd se láme o měsí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 tebou však dosud nesved vůbec n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 hrůzo hrůzo hrůzo siná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yšíš jak stříbrokůň se vzpíná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rkavec zkřik umár umá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u žár, tu var tu, zmar tu cá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508720" y="4076640"/>
            <a:ext cx="2381040" cy="2381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86560" y="2781360"/>
            <a:ext cx="525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youtube.com/watch?v=uS7IdqwW3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f"/>
                </a:solidFill>
                <a:latin typeface="Arial"/>
              </a:rPr>
              <a:t>Veliké lalul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raklakvakve? Koranere!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sonsirýři - guelira: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rifsi, brafsi; gutužere: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asti, dasti kra...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alu lalu lalu lalu la! </a:t>
            </a:r>
            <a:br>
              <a:rPr sz="1600"/>
            </a:b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handraradar sísajádra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sku tes py pi?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ahapádra, pryvešádra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lukpukpici li?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alu lalu lalu lalu la! </a:t>
            </a:r>
            <a:br>
              <a:rPr sz="1600"/>
            </a:b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ochoškrt sic kalcisumpa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enmemysagart (;)!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iboň sod: Quocitem Vumpa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leso Klaso Klart (!)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alu lalu lalu lalu la! </a:t>
            </a:r>
            <a:br>
              <a:rPr sz="1600"/>
            </a:b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Šibeniční písně (1905)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z němčiny přeložil Josef Hirša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1714680" cy="1438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213800" y="3357720"/>
            <a:ext cx="50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youtube.com/watch?v=IAGTF7ev5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11640" y="4292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youtube.com/watch?v=yG2sSdghCyE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372360" y="0"/>
            <a:ext cx="2401920" cy="3166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211640" y="4437000"/>
            <a:ext cx="403848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11:21:01Z</dcterms:created>
  <dc:creator>Metzner</dc:creator>
  <dc:description/>
  <dc:language>en-US</dc:language>
  <cp:lastModifiedBy>Metzner</cp:lastModifiedBy>
  <dcterms:modified xsi:type="dcterms:W3CDTF">2011-02-13T12:56:34Z</dcterms:modified>
  <cp:revision>11</cp:revision>
  <dc:subject/>
  <dc:title>Poezie v 1. polovině 20. století</dc:title>
</cp:coreProperties>
</file>