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26A9-B7D6-4C9A-8C54-41BBCB08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DF81-9B80-41CE-800D-9FDF2BD7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213B-FF09-4818-BF1D-8FDCD267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E4B1-C443-4955-91D4-B567B93E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D1FF-1598-4ED7-8BD9-1EA2036E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DEDC-008D-4855-9CCA-A9D52CCA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70D-5399-4323-961A-8961C237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1E1D-B626-4C44-AF95-D400F415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6E13-CC2C-4F6C-A81E-DB26305F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E2F0-7888-4231-98D1-F1FB1BB7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E3D4-E4E8-440D-9132-7D745468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C4ED-7170-4901-9F0B-1989713D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ED6B-974E-4939-879B-BB6A94BD4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c/Bundesarchiv_Bild_183-R04034%2C_Erich_Maria_Remarqu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Světová próza v 1. polovině 20. stole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nositelé Nobelovy c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 H. Sienkiewicz (1901)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 R. Kipling (19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 R. Rolland (19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 G. B. Shaw (19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 J. Galsworthy (193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 A. Gide (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 E. Hemingway (19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 J. Steinbeck (196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Americká 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9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heodor DREISE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871 – 194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merická tragé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William FAULKNE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897 – 196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bsolone, Absol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ck LONDO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876 – 19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Martin Eden, Tulák po hvězdách, Volání divočiny, Bílý tes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ohn STEINBEC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902 – 196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O myších a lidech, Na východ od rá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národní literat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rancie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R. Rolland, Saint – Exup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SA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J. London, E. Hemingway, W. Steinb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ěmecko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E.M. Remarque, T. Mann, H. Mann, L. Feuchtw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B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. Wolfová, G. Orwell, J. Joy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ČR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obraz 1. světové vál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tracená generace – lost generation (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. Steino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zpopularizoval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. Hemingwa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pocity vojáků po návratu z války (duševně zmrzačeni, problémy se zařazením se do společn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nesouhlas a nedůvěra ke společnosti, jejich psaní je často blízké ke stylu novin, často staví své hrdiny do velmi nebezpečných situací, kde musí prokazovat svůj charak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W. Faulkner, F. S. Fitzerald, E. Pound, T. S. Eli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obraz 1. světové vál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rich Maria REMARQU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898 – 197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main ROLLAN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866 – 194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enri BARBUSS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873 – 193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rnest HEMINGWA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899 – 196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Erich Maria REMARQUE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(1898 – 19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mentalismus, obdobná struktura (milostný příběh, naturalistické válečné scé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 západní frontě kl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sta zpát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ři kamará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iskra živo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Čas žít, čas umír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nástup faš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ff"/>
                </a:solidFill>
                <a:latin typeface="Arial"/>
              </a:rPr>
              <a:t>E. M. Remar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18 narukoval na front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aně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udebník, malíř, učit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mobilový závodní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iná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30. letech na ind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kázaných autorů (Paul Kram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migrace do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Soubor:Bundesarchiv Bild 183-R04034, Erich Maria Remarqu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7200" y="0"/>
            <a:ext cx="28368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Tři kamará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ěmecko, přelom 20. a 30.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bert, Otto a Gottfried, vlastníci autodíl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rel - auto s ošuntělou, pobouchanou a zastaralou karoserií, ale s motorem špičkového závodního stro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t, dívka z lepší rodiny, se kterou se náhodně při projížďce Karlem seznámí Robert. Líbí se jí bohémský způsob života vedený třemi kamarády a začíná ho žít s ni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t je vážně nemocná. Musí se léčit v sanatori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tifašisticky orientovaný Gottfried je při jednom střetu s oddílem SA zastř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moderní pró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obodná tvorba, odmítání napodoben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třebávání různých sociálních a kulturních i filosofický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ůraznění umělcovy osob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ktiv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y s jazykem i formou (prolínání rovin, subjektivní vnímání čas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Americká 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ertrude STEINO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874 – 194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Jak se utvářeli Američa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inclair LEWI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885 – 195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Babbit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tuctový hrdina spokojený sám se sebou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typ omezeného maloměšťác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rancis Scott FITZGERAL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896 – 19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elký Gat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19:26:07Z</dcterms:created>
  <dc:creator>Metzner</dc:creator>
  <dc:description/>
  <dc:language>en-US</dc:language>
  <cp:lastModifiedBy>jmarek</cp:lastModifiedBy>
  <dcterms:modified xsi:type="dcterms:W3CDTF">2011-03-21T10:58:34Z</dcterms:modified>
  <cp:revision>6</cp:revision>
  <dc:subject/>
  <dc:title>Světová próza v 1. polovině 20. století</dc:title>
</cp:coreProperties>
</file>