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C37-3FF6-409A-AF4F-888DE47A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C61-80B5-4362-916E-A14C4F3B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CB6-0E73-4BCE-8BB5-605CE794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B42-C260-4C6D-BE70-E583EC46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E41-D4D0-44F4-A675-FADC092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5DC-1BF7-4DA0-B8A7-3D74EAA9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31F-E2AB-4168-BDF6-BEA4ED4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B24-E358-4068-82A2-5C895085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452-B74A-401A-BA2F-B8DCDBC4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495-2F73-4F90-9849-1603ED66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C72-F89B-43F5-AFC0-D9D01821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6C2-0472-41EB-ABB1-2CA4408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4551-BC70-4C67-A72E-0D7F7C3A2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file://upload.wikimedia.org/wikipedia/commons/6/6d/HarryPotterBooks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Doris_lessing_2006031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Harold-pinter-at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gl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hněvaní mladí mu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lturní plural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echová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a závěr přiletí kouzelník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tská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. K. Rowling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9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y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46724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8792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Soubor:HarryPotterBoo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1290600"/>
            <a:ext cx="6767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Charakteristika univerzitního románu. Interpretace díla na základě ukáz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Témata a představitelé oddechové litera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Významní představitelé britské litera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Charakteristika experimentální prózy. Interpretace díla na základě ukáz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r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erimentální ro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William Golding (1911 – 1933) [viljem gouldin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C 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án much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utopie. Zlo vnímá jako skrytou, ale všudypřítomnou sílu v člověku samém. Katastrofický nádech o budoucnosti svě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spirován zkušeností z války. Dobrodružná rovina verneovky se rychle vytrácí a vítězí nejnižší lidské pudy. Záchranu přináší loď, ale ta je váleč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an McEw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48) [mekjúe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jení příběhu s experimentálními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chmurná atmosféra, symbolické vy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Betonová zahra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bizarní život anglické rodiny (Despotický otec řeší problém s plevelem betonováním zahrady. Smrt rodičů se děti rozhodnou utajit. Děti začínají žít nespoutaně – i v oblasti sexu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r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rvine Wels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961) [érvin velš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kot žijící v Londý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nkrock, dr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iv W. Burghouse [barouze] (beatník, Nahý oběd, Feťá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rainspotting, Sviňák, P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ald Dah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916 – 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rozen ve Walesu, rodiče Nor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pro děti, povídky -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Karlík a továrna na čokoládu, Matylda, Jirkova zázračná 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lturní plur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alman Rushd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947) [selmen rašd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rozen v Indii, žil v Pákistánu, dnes ve Velké Británii pod ochranou bezpečnostních slož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atanské verš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988) – muslimové považují za urážku islámu, íránský vůdce Chomejní vyhlásil Rushdiemu k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émat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ivilizační a kulturní vliv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vky magického realismu v románu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ěti půlnoc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ztah historie a jedi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ddechová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tastrofické rom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rthur Hailey (1920 –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ínavý děj,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Let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tektivní rom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gatha Christ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890 – 19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románů; divadelní hr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ast na myš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hraje nepřetržitě od r.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Hercule Poirot, slečna Marp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. J. James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dam Dalgli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Zahalte jí tvář, Smrt jí slu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věroléka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rald Durrel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25 – 1995) – zvěroléka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Zoo v kuf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ames Herri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16 – 1995) – veterinář, za války v 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Zvěrolékař mezi nebem a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hněvaní mladí muž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gry Young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0. léta, volné seskupení, bez stanoveného programu; blízkost tematická a gen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ika konzervatismu, univerzitní hrdinové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niverzitní ro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nti)hrdinové odmítají zařadit se do společnosti, protestují proti kariérismu, přetvář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ingsley Am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22 – 1995) [kingzli ejmi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ťastný Ji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Jim Dixon – historik na provinční univerzitě se snaží udržet místo za cenu intrik, podlézání. Dostává se do ošemetných situací, které řeší sebeironií. Jeho nadřízený profesor Welch je nepraktický, zkostnatěl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ci-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rge Orwel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13 – 19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tiuto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elký bratr, W.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rthur C. Clark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rofyzik, spis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je na Srí 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umoristické sci-fi romány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2001: Vesmírná odyse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režie: Stanley Kubr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. S. Lew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898 – 19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etopisy Nar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. R. R. Tolki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892 – 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Hobit, Pán prst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oris Lessingová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19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6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rozena v Iránu britským občan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tec se léčil po válečném zranění v nemocn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. léta – Zimbabwe (farma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nžel Gottfried Lessing východoněmecký velvyslanec v Ugand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paň proti jaderným zbraním, proti aparthe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: autobiografický, sociální a politické mot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341360"/>
            <a:ext cx="3889440" cy="318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32360" y="5157720"/>
            <a:ext cx="4038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Nobelov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Harold Pinte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1930 – 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129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tik, básník, he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v absurdního diva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dování h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rozeni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Čechách už v r. 1967 v kl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 -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4076640"/>
            <a:ext cx="399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6:17Z</dcterms:created>
  <dc:creator>Jiří Marek</dc:creator>
  <dc:description/>
  <dc:language>en-US</dc:language>
  <cp:lastModifiedBy>Jiří Marek</cp:lastModifiedBy>
  <dcterms:modified xsi:type="dcterms:W3CDTF">2012-10-22T17:53:00Z</dcterms:modified>
  <cp:revision>17</cp:revision>
  <dc:subject/>
  <dc:title>Anglická literatura</dc:title>
</cp:coreProperties>
</file>