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DDF-533B-4531-B03A-FAA5E7E8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DDB-CA9B-47E5-9758-E1F2BEF1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961-5634-4F1F-9936-18AFEEC5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ECC-65E1-4C7D-BD3D-509FBFD0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ECC-E365-47D7-8841-554FF3CC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112-B1E9-4619-99DE-93BC0BEE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01C-28BA-407B-97A7-7725C22D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FB7-4C6B-494B-A3CC-5A1DADB1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B8B-CEEB-4C71-A533-CE91A2A7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89F-190E-45B5-827D-B5C55C93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EEF-793F-4F6A-9585-352ADD6B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52C-889E-450F-9585-667BE855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EF22-6133-4859-81B1-60DE166EF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file://upload.wikimedia.org/wikipedia/commons/6/6d/HarryPotterBooks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Doris_lessing_2006031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Harold-pinter-at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glick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hněvaní mladí mu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lturní plural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dechová 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a závěr přiletí kouzelník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tská 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. K. Rowling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19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rry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467240" cy="335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787920" cy="4967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Soubor:HarryPotterBook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1290600"/>
            <a:ext cx="67676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Úk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Charakteristika univerzitního románu. Interpretace díla na základě ukáz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Témata a představitelé oddechové litera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Významní představitelé britské litera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Charakteristika experimentální prózy. Interpretace díla na základě ukáz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rn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perimentální rom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William Golding (1911 – 1933) [viljem gouldin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C 19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án much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tiutopie. Zlo vnímá jako skrytou, ale všudypřítomnou sílu v člověku samém. Katastrofický nádech o budoucnosti svě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spirován zkušeností z války. Dobrodružná rovina verneovky se rychle vytrácí a vítězí nejnižší lidské pudy. Záchranu přináší loď, ale ta je váleč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an McEw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48) [mekjúe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jení příběhu s experimentálními po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chmurná atmosféra, symbolické vy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Betonová zahrad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bizarní život anglické rodiny (Despotický otec řeší problém s plevelem betonováním zahrady. Smrt rodičů se děti rozhodnou utajit. Děti začínají žít nespoutaně – i v oblasti sexu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rn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rvine Wels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1961) [érvin velš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kot žijící v Londý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unkrock, dr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iv W. Burghouse [barouze] (beatník, Nahý oběd, Feťá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Trainspotting, Sviňák, P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ald Dah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1916 – 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rozen ve Walesu, rodiče Nor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pro děti, povídky -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Karlík a továrna na čokoládu, Matylda, Jirkova zázračná medic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lturní plur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alman Rushd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947) [selmen rašd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rozen v Indii, žil v Pákistánu, dnes ve Velké Británii pod ochranou bezpečnostních slož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atanské verš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988) – muslimové považují za urážku islámu, íránský vůdce Chomejní vyhlásil Rushdiemu k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émata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ivilizační a kulturní vlivy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rvky magického realismu v románu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ěti půlnoc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ztah historie a jedi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ddechová lit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tastrofické rom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rthur Hailey (1920 –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ínavý děj,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Leti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etektivní rom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gatha Christ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890 – 19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0 románů; divadelní hra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ast na myš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e hraje nepřetržitě od r. 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Hercule Poirot, slečna Marpl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. J. Jamesov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dam Dalgli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Zahalte jí tvář, Smrt jí sluš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věrolékař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rald Durrel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25 – 1995) – zvěroléka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Zoo v kuf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James Herri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16 – 1995) – veterinář, za války v R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Zvěrolékař mezi nebem a ze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hněvaní mladí muž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gry Young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0. léta, volné seskupení, bez stanoveného programu; blízkost tematická a genera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itika konzervatismu, univerzitní hrdinové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univerzitní rom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nti)hrdinové odmítají zařadit se do společnosti, protestují proti kariérismu, přetvář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ingsley Am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22 – 1995) [kingzli ejmi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Šťastný Ji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Jim Dixon – historik na provinční univerzitě se snaží udržet místo za cenu intrik, podlézání. Dostává se do ošemetných situací, které řeší sebeironií. Jeho nadřízený profesor Welch je nepraktický, zkostnatěl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Sci-f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orge Orwel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13 – 19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tiuto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1984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Velký bratr, W.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rthur C. Clark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strofyzik, spisov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je na Srí 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umoristické sci-fi romány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2001: Vesmírná odyse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režie: Stanley Kubr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. S. Lew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898 – 19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Letopisy Nar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. R. R. Tolkie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892 – 19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Hobit, Pán prst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oris Lessingová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(19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60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rozena v Iránu britským občanů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tec se léčil po válečném zranění v nemocn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. léta – Zimbabwe (farmař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nžel Gottfried Lessing východoněmecký velvyslanec v Ugand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mpaň proti jaderným zbraním, proti aparthe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: autobiografický, sociální a politické moti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341360"/>
            <a:ext cx="3889440" cy="3183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32360" y="5157720"/>
            <a:ext cx="4038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Nobelova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Harold Pinte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(1930 – 200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129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matik, básník, her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iv absurdního diva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udování h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arozeni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Čechách už v r. 1967 v klu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 -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4076640"/>
            <a:ext cx="39960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9:06:17Z</dcterms:created>
  <dc:creator>Jiří Marek</dc:creator>
  <dc:description/>
  <dc:language>en-US</dc:language>
  <cp:lastModifiedBy>Jiří Marek</cp:lastModifiedBy>
  <dcterms:modified xsi:type="dcterms:W3CDTF">2012-10-22T17:53:00Z</dcterms:modified>
  <cp:revision>17</cp:revision>
  <dc:subject/>
  <dc:title>Anglická literatura</dc:title>
</cp:coreProperties>
</file>