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C38-2CBD-4EEE-B46B-70C9C441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088-A893-49BF-9644-8B13C9C0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A4D-B8F7-49E4-8AED-A4CFB408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318-F719-40BE-8DC6-66B0E7A7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007-43F3-4360-9915-82CB57EE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062-939F-4D72-AC6C-B9418D49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E15-F15B-48B7-88CD-787AF624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5F7-66E9-40CA-8170-A9C16661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5C9-A1AD-4294-B7DF-5DDCEA8A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A78-0BFE-4021-9AA7-16E1FF8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31B-A0E2-4549-8DB2-124EBEAB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504-A435-4053-ADE4-8BEA79D7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9C8E-0D02-4947-B745-DC5856E50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Bundesarchiv_Bild_183-R04034%2C_Erich_Maria_Remarqu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Světová próza v 1. polovině 20. stole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ositelé Nobelovy c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H. Sienkiewicz (1901)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R. Kipling (19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R. Rolland (19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G. B. Shaw (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J. Galsworthy (19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A. Gide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E. Hemingway (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J. Steinbeck 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Americk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heodor DREIS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1 –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merická tragé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illiam FAULKN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7 – 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bsolone, Abso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ck LONDO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6 – 19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artin Eden, Tulák po hvězdách, Volání divočiny, Bílý tes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ohn STEINBEC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902 – 19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 myších a lidech, Na východ od rá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národní litera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rancie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R. Rolland, Saint – Exup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. London, E. Hemingway, W. Steinb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ěmecko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E.M. Remarque, T. Mann, H. Mann, L. Feuchtw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 Wolfová, G. Orwell, J. Joy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R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obraz 1. světové vá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tracená generace – lost generation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. Stein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zpopularizoval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. Hemingwa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city vojáků po návratu z války (duševně zmrzačeni, problémy se zařazením se do společ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souhlas a nedůvěra ke společnosti, jejich psaní je často blízké ke stylu novin, často staví své hrdiny do velmi nebezpečných situací, kde musí prokazovat svůj charak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W. Faulkner, F. S. Fitzerald, E. Pound, T. S. El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obraz 1. světové vá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rich Maria REMARQU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8 – 19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main ROLLAN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66 – 19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nri BARBUSS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3 – 19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rnest HEMINGWA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9 – 19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rich Maria REMARQUE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1898 –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entalismus, obdobná struktura (milostný příběh, naturalistické válečné scé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 západní frontě kl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sta zpá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ři kamará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skra živ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as žít, čas umír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ástup faš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ff"/>
                </a:solidFill>
                <a:latin typeface="Arial"/>
              </a:rPr>
              <a:t>E. M. Remar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18 narukoval na front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n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debník, malíř, učit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obilový závodní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iná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30. letech na ind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kázaných autorů (Paul Kra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igrace d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oubor:Bundesarchiv Bild 183-R04034, Erich Maria Remarq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7200" y="0"/>
            <a:ext cx="2836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ři kamará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mecko, přelom 20. a 30.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bert, Otto a Gottfried, vlastníci autodíl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el - auto s ošuntělou, pobouchanou a zastaralou karoserií, ale s motorem špičkového závodního stro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t, dívka z lepší rodiny, se kterou se náhodně při projížďce Karlem seznámí Robert. Líbí se jí bohémský způsob života vedený třemi kamarády a začíná ho žít s ni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t je vážně nemocná. Musí se léčit v sanator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ifašisticky orientovaný Gottfried je při jednom střetu s oddílem SA zastř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moderní pró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obodná tvorba, odmítání napodobe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třebávání různých sociálních a kulturních i filosofick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ůraznění umělcovy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y s jazykem i formou (prolínání rovin, subjektivní vnímání ča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Americk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ertrude STEIN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4 – 19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ak se utvářeli Američ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inclair LEWI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85 – 19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abbit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tuctový hrdina spokojený sám se sebo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 omezeného maloměšťá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rancis Scott FITZGERAL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6 – 19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elký Gat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26:07Z</dcterms:created>
  <dc:creator>Metzner</dc:creator>
  <dc:description/>
  <dc:language>en-US</dc:language>
  <cp:lastModifiedBy>jmarek</cp:lastModifiedBy>
  <dcterms:modified xsi:type="dcterms:W3CDTF">2011-03-21T10:58:34Z</dcterms:modified>
  <cp:revision>6</cp:revision>
  <dc:subject/>
  <dc:title>Světová próza v 1. polovině 20. století</dc:title>
</cp:coreProperties>
</file>