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3FFD-CC03-4161-B819-11AABAECB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DB74-D10E-45A0-BEB2-DE650F40F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E94E-21C6-4E13-916D-8A70EB3F1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CF32-395E-46BF-8484-1A80EEF88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079E-C305-4610-86CF-DB042ED94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0EF9-AA43-493F-94DB-B2FE03E03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2095-1523-4506-99E0-E6FDFB772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9EA8-C958-4383-A183-83D6211AD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D788-38F6-46BD-8452-42A0B5C87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6989-EBB4-4376-B7F6-91748EAAC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C528-9086-451B-8BFA-CD8D06FA8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71A5-4448-4303-A273-7432DE664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41615-279E-4F53-A7E4-998E256B79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cs.wikipedia.org/wiki/Soubor:Tzara_by_Tihanyi.jpg" TargetMode="External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cs.wikipedia.org/wiki/Soubor:Morgenstern-h420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Poezie v 1. polovině 20. stolet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álka (1914 – 191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říjnová revoluce (Rusko, 191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njunktura (20. lét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spodářská krize (černý pátek – 192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šismus (1922, 1933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 Španělsk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světová válka (1939 – 194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vé uspořádání světa (po r. 194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Arial"/>
              </a:rPr>
              <a:t>Nové názvy navržené přírod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ampev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ygrh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rejmysliv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Žrah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Štikaď sam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žik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idamýž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enostoj čtyřprst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ětikrás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oudiloď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ědkuč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ěsnýš</a:t>
            </a:r>
            <a:br>
              <a:rPr sz="2400"/>
            </a:br>
            <a:br>
              <a:rPr sz="16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Arial"/>
              </a:rPr>
              <a:t>Noční rybí zpě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419640" y="1484280"/>
            <a:ext cx="234792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Arial"/>
              </a:rPr>
              <a:t>Trychtýř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va trychtýře jdou noční tmou.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ěl jejich úzkou skulinou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udí jas luny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lidně, stále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 cestu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esem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t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futurism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ff"/>
                </a:solidFill>
                <a:latin typeface="Arial"/>
              </a:rPr>
              <a:t>Filippo Tommaso MARINETTI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1876 – 194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polupráce s Mussolin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ff"/>
                </a:solidFill>
                <a:latin typeface="Arial"/>
              </a:rPr>
              <a:t>Manifest futurism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1909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1. Chceme opěvovat lásku k nebezpečí, návyk na energii a smělo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2. Základními prvky naší poezie budou odvaha, zmužilost a revol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3. Literatura až dosud velebila myšlenkovou nehybnost, extázi a spánek, my chceme velebit útočný neklid, horečnatou nespavost, poklus, nebezpečný skok, facku a ránu pěst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4. Prohlašujeme, že nádhera světa byla obohacena o novou krásu: o krásu rychlosti. Závodní automobil se svou kapotou ozdobenou tlustými trubkami podobnými hadům s výbušným dechem…, řvoucí automobil, který jako by se řítil po kartáčových nábojích, je krásnější než Niké ze Samothrák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5. (…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6. Básník se musí vybít vášnivě, břeskně a marnotratně, chce-li znásobit nadšené zanícení pro prvotní živly (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Soubor:FilippoTommasoMarinetti.jpg"/>
          <p:cNvPicPr/>
          <p:nvPr/>
        </p:nvPicPr>
        <p:blipFill>
          <a:blip r:embed="rId1"/>
          <a:stretch/>
        </p:blipFill>
        <p:spPr>
          <a:xfrm>
            <a:off x="6732720" y="115920"/>
            <a:ext cx="241128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ff"/>
                </a:solidFill>
                <a:latin typeface="Arial"/>
              </a:rPr>
              <a:t>Guillaume Apollinaire </a:t>
            </a:r>
            <a:r>
              <a:rPr b="1" lang="cs-CZ" sz="3200" spc="-1" strike="noStrike">
                <a:solidFill>
                  <a:srgbClr val="0000ff"/>
                </a:solidFill>
                <a:latin typeface="Arial"/>
              </a:rPr>
              <a:t>(1880 – 191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rancouzský experimentální básník polského půvo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átelství s Picass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čast ve válce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„Stávám se bezmyšlenkovitým automatem.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ěť španělské chřip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ff"/>
                </a:solidFill>
                <a:latin typeface="Arial"/>
              </a:rPr>
              <a:t>Alkoholy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– asoci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ff"/>
                </a:solidFill>
                <a:latin typeface="Arial"/>
              </a:rPr>
              <a:t>Kaligram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vizuální lyrism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ff"/>
                </a:solidFill>
                <a:latin typeface="Arial"/>
              </a:rPr>
              <a:t>Pásm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volný proud básníkova vědomí, stírá rozdíl mezi epikou a lyriko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Soubor:Guillaume Apollinaire 1914.jpg"/>
          <p:cNvPicPr/>
          <p:nvPr/>
        </p:nvPicPr>
        <p:blipFill>
          <a:blip r:embed="rId1"/>
          <a:stretch/>
        </p:blipFill>
        <p:spPr>
          <a:xfrm>
            <a:off x="5508720" y="1341360"/>
            <a:ext cx="3228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ff"/>
                </a:solidFill>
                <a:latin typeface="Arial"/>
              </a:rPr>
              <a:t>G. Apollina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realism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dyž chtěl člověk napodobit chůzi, vynalezl kolo, které se vůbec nepodobá noze. Tak dospěl k surrealismu, aniž věděl jak.“ (191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40360" y="1844640"/>
            <a:ext cx="238140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3114720" cy="4191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780000" y="2637000"/>
            <a:ext cx="514332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umě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udba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- G. Mah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ilm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- S. Ejzenšte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- Ch. Chap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- L. Buňuel, S. Dalí – Andaluský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ttp://www.csfd.cz/film/1112-andalusky-pes/galerie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tvarné umění - P. Picas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940360" y="260280"/>
            <a:ext cx="2857680" cy="40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poez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ff"/>
                </a:solidFill>
                <a:latin typeface="Arial"/>
              </a:rPr>
              <a:t>experimentální poez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ff"/>
                </a:solidFill>
                <a:latin typeface="Arial"/>
              </a:rPr>
              <a:t>avantgarda</a:t>
            </a:r>
            <a:r>
              <a:rPr b="0" lang="cs-CZ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etapa ve vývoji moderního umění; antitradicionalismus a společenská revolta; odmítání sociální nespravedlnosti, příklon k extrémistickým politickým hnutí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ff"/>
                </a:solidFill>
                <a:latin typeface="Arial"/>
              </a:rPr>
              <a:t>dadaismus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revolta proti válce, hravý sty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ff"/>
                </a:solidFill>
                <a:latin typeface="Arial"/>
              </a:rPr>
              <a:t>kubism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- prostorové koncepci díla, předmět nezobrazuje jen z jednoho úhlu, ale z mnoha úhlů současně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ff"/>
                </a:solidFill>
                <a:latin typeface="Arial"/>
              </a:rPr>
              <a:t>futurism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- cílem bylo ukázat moderní uspěchanou a rušnou dobu, námětem byla technika; snaha o rychlost, které dosahovali např. zkratkovitostí (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F. T. Marinetti, V.V. Majakovskij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ff"/>
                </a:solidFill>
                <a:latin typeface="Arial"/>
              </a:rPr>
              <a:t>expresionism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protiklad impresionismu, naturalismu, vyjádření vlastních prožitků a vlastních pocitů bez ohledu na jakékoli konve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ff"/>
                </a:solidFill>
                <a:latin typeface="Arial"/>
              </a:rPr>
              <a:t>fauvism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vyhraněná forma expresionis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ff"/>
                </a:solidFill>
                <a:latin typeface="Arial"/>
              </a:rPr>
              <a:t>poetism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vznikl v ČSR, všednodennost, hravost, rad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ff"/>
                </a:solidFill>
                <a:latin typeface="Arial"/>
              </a:rPr>
              <a:t>surrealismus -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mělecký směr, ale také životní styl, který usiluje o osvobození mysli, zdůrazňuje podvědomí; snaha zachytit sny, představy, pocity a myšlenky (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. Breton, S. Dal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dadaism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olta skupiny umělců různých národností proti válečným hrůzá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tředek vyjádření zmatku a strachu z vál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hledá žádná východiska (východiskem byl nesmysl), a tak dada sklouzla až k nihilis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ýklad děl byl zcela závislý na adresáto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ff"/>
                </a:solidFill>
                <a:latin typeface="Arial"/>
              </a:rPr>
              <a:t>Tristan Tzara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(1896 – 196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77040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ncouzský básník rumunského půvo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Cover of the first edition of the publication, Dada. Edited by Tristan Tzara. Zürich, 1917."/>
          <p:cNvPicPr/>
          <p:nvPr/>
        </p:nvPicPr>
        <p:blipFill>
          <a:blip r:embed="rId1"/>
          <a:stretch/>
        </p:blipFill>
        <p:spPr>
          <a:xfrm>
            <a:off x="539640" y="2781360"/>
            <a:ext cx="2482920" cy="2879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Tristan Tzaraautor: Lajos Tihanyi, 192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564000" y="2637000"/>
            <a:ext cx="2143080" cy="30286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6227640" y="2708280"/>
            <a:ext cx="23497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ff"/>
                </a:solidFill>
                <a:latin typeface="Arial"/>
              </a:rPr>
              <a:t>Tristan Tza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Návod, jak vytvořit dadaistickou báse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1918)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změte noviny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změte nůžky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jděte v novinách článek, aby měl délku, jakou počítáte dát své básn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Článek vystřihnět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tom pečlivě rozstříhejte všechna slova,která tvoří tento článek, a vložte je do pytlíku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kládejte pak jeden ústřižek za druhým přesně v pořádku, v jakém vyšly z pytlíku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vědomitě opišt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áseň se vám bude podobat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vězte, že jste spisovatel neskonale originální a okouzlující citlivostí, byť doposud nepochopen lid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nons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smyslný, až absurdní text; grafické básn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ff"/>
                </a:solidFill>
                <a:latin typeface="Arial"/>
              </a:rPr>
              <a:t>Christian MORGENST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ff"/>
                </a:solidFill>
                <a:latin typeface="Arial"/>
              </a:rPr>
              <a:t>(1871 – 191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německý básník, novinář a překlada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zakladatel německé nonsensové poez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studoval dějiny umění a prá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ěnoval se žurnalistice, poezii a překladatelstv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tuberkuló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ěhem života malé uzn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04000" y="3573360"/>
            <a:ext cx="209556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Arial"/>
              </a:rPr>
              <a:t>Hymna šibeničních bratř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Ó strašný zmatku žít a pí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ás tu teď houpá tenká n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avouk tká sítě za skřehotu žab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o účesů už vítr hrá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o je hymna šibeničních bratří johohóhó To je hymna šibeničních bratř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 hrůzo hrůzo hrůzo siná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si proklet! sova připomíná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vit hvězd se láme o měsí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 tebou však dosud nesved vůbec n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 hrůzo hrůzo hrůzo siná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lyšíš jak stříbrokůň se vzpíná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rkavec zkřik umár umá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u žár, tu var tu, zmar tu cá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508720" y="4076640"/>
            <a:ext cx="2381040" cy="23814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886560" y="2781360"/>
            <a:ext cx="525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ttp://www.youtube.com/watch?v=uS7IdqwW3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f"/>
                </a:solidFill>
                <a:latin typeface="Arial"/>
              </a:rPr>
              <a:t>Veliké lalul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raklakvakve? Koranere! 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sonsirýři - guelira: 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Brifsi, brafsi; gutužere: 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gasti, dasti kra... 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Lalu lalu lalu lalu la! </a:t>
            </a:r>
            <a:br>
              <a:rPr sz="1600"/>
            </a:b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handraradar sísajádra 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esku tes py pi? 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ahapádra, pryvešádra 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lukpukpici li? 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Lalu lalu lalu lalu la! </a:t>
            </a:r>
            <a:br>
              <a:rPr sz="1600"/>
            </a:b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ochoškrt sic kalcisumpa 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enmemysagart (;)! 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Biboň sod: Quocitem Vumpa 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leso Klaso Klart (!) 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Lalu lalu lalu lalu la! </a:t>
            </a:r>
            <a:br>
              <a:rPr sz="1600"/>
            </a:b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Šibeniční písně (1905) 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z němčiny přeložil Josef Hiršal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1714680" cy="14382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213800" y="3357720"/>
            <a:ext cx="508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ttp://www.youtube.com/watch?v=IAGTF7ev5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211640" y="429264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ttp://www.youtube.com/watch?v=yG2sSdghCyE&amp;feature=re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372360" y="0"/>
            <a:ext cx="2401920" cy="31669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4211640" y="4437000"/>
            <a:ext cx="4038480" cy="22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3T11:21:01Z</dcterms:created>
  <dc:creator>Metzner</dc:creator>
  <dc:description/>
  <dc:language>en-US</dc:language>
  <cp:lastModifiedBy>Metzner</cp:lastModifiedBy>
  <dcterms:modified xsi:type="dcterms:W3CDTF">2011-02-13T12:56:34Z</dcterms:modified>
  <cp:revision>11</cp:revision>
  <dc:subject/>
  <dc:title>Poezie v 1. polovině 20. století</dc:title>
</cp:coreProperties>
</file>