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C96-8AF7-4BAE-9CAE-8BFE0216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3FD-BF1F-41CA-959B-D5007201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783-57F3-45BE-AE05-C47FCF5A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E09-2F32-4A89-BE8A-76B5F7C9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05D-DD78-4947-88F4-CE567E82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6F2-8325-4B6A-899C-BE7C239E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776-4C03-4684-918A-25B3A749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AB6-6D03-4038-A950-9B2AA371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04F-E8D4-482A-8E04-F16F1A71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06D-3B56-4FBF-9F72-210F0B3B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003-F4B2-4B57-AFE3-8D7C3BA1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954-C7B1-44C0-A8B3-8E89A3AC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8046-11F4-4C90-922C-9806EF961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s.wikipedia.org/wiki/Soubor:Tzara_by_Tihanyi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Morgenstern-h42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ezie v 1. polovině 20. stole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álka (1914 – 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íjnová revoluce (Rusko, 19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junktura (20. lé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odářská krize (černý pátek – 19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šismus (1922, 193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Španěls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větová válka (1939 – 1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é uspořádání světa (po r. 19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Nové názvy navržené přírod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pev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gr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ejmysli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rah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tikaď sam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ži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damýž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nostoj čtyřprst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ětikrá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udiloď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dku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snýš</a:t>
            </a:r>
            <a:br>
              <a:rPr sz="24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Noční rybí zpě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2347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Trychtý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va trychtýře jdou noční tmou.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l jejich úzkou skulino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udí jas luny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idně, stál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cest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sem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utur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Filippo Tommaso MARINET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876 – 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upráce s Mussolin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Manifest futurism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909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1. Chceme opěvovat lásku k nebezpečí, návyk na energii a směl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2. Základními prvky naší poezie budou odvaha, zmužilost a revol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3. Literatura až dosud velebila myšlenkovou nehybnost, extázi a spánek, my chceme velebit útočný neklid, horečnatou nespavost, poklus, nebezpečný skok, facku a ránu pě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4. Prohlašujeme, že nádhera světa byla obohacena o novou krásu: o krásu rychlosti. Závodní automobil se svou kapotou ozdobenou tlustými trubkami podobnými hadům s výbušným dechem…, řvoucí automobil, který jako by se řítil po kartáčových nábojích, je krásnější než Niké ze Samothrá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5. (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6. Básník se musí vybít vášnivě, břeskně a marnotratně, chce-li znásobit nadšené zanícení pro prvotní živly 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Soubor:FilippoTommasoMarinetti.jpg"/>
          <p:cNvPicPr/>
          <p:nvPr/>
        </p:nvPicPr>
        <p:blipFill>
          <a:blip r:embed="rId1"/>
          <a:stretch/>
        </p:blipFill>
        <p:spPr>
          <a:xfrm>
            <a:off x="6732720" y="115920"/>
            <a:ext cx="2411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Guillaume Apollinaire </a:t>
            </a: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(1880 – 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ouzský experimentální básník polského pův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átelství s Picass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 ve vál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Stávám se bezmyšlenkovitým automate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ěť španělské chřip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Alkoho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asoci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Kaligram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izuální lyr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ff"/>
                </a:solidFill>
                <a:latin typeface="Arial"/>
              </a:rPr>
              <a:t>Pásm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olný proud básníkova vědomí, stírá rozdíl mezi epikou a lyrik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Soubor:Guillaume Apollinaire 1914.jpg"/>
          <p:cNvPicPr/>
          <p:nvPr/>
        </p:nvPicPr>
        <p:blipFill>
          <a:blip r:embed="rId1"/>
          <a:stretch/>
        </p:blipFill>
        <p:spPr>
          <a:xfrm>
            <a:off x="5508720" y="1341360"/>
            <a:ext cx="322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G. Apollin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dyž chtěl člověk napodobit chůzi, vynalezl kolo, které se vůbec nepodobá noze. Tak dospěl k surrealismu, aniž věděl jak.“ (19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3814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114720" cy="4191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80000" y="2637000"/>
            <a:ext cx="5143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um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udb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G. Ma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lm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S. Ejzenšte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h. Chap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L. Buňuel, S. Dalí – Andaluský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www.csfd.cz/film/1112-andalusky-pes/galeri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tvarné umění - P. Pica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576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oe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experimentální poe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avantgarda</a:t>
            </a: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etapa ve vývoji moderního umění; antitradicionalismus a společenská revolta; odmítání sociální nespravedlnosti, příklon k extrémistickým politickým h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dadaismu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revolta proti válce, hravý sty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kub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prostorové koncepci díla, předmět nezobrazuje jen z jednoho úhlu, ale z mnoha úhlů součas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futur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cílem bylo ukázat moderní uspěchanou a rušnou dobu, námětem byla technika; snaha o rychlost, které dosahovali např. zkratkovitostí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. T. Marinetti, V.V. Majakovski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expresion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rotiklad impresionismu, naturalismu, vyjádření vlastních prožitků a vlastních pocitů bez ohledu na jakékoli konv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fauv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yhraněná forma expresionis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poetis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znikl v ČSR, všednodennost, hravost, rad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surrealismus 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ělecký směr, ale také životní styl, který usiluje o osvobození mysli, zdůrazňuje podvědomí; snaha zachytit sny, představy, pocity a myšlenky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. Breton, S. Dal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ada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ta skupiny umělců různých národností proti válečným hrůzá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ek vyjádření zmatku a strachu z vál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hledá žádná východiska (východiskem byl nesmysl), a tak dada sklouzla až k nihil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klad děl byl zcela závislý na adresát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Tristan Tzara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(1896 – 19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0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ouzský básník rumunského pův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Cover of the first edition of the publication, Dada. Edited by Tristan Tzara. Zürich, 1917."/>
          <p:cNvPicPr/>
          <p:nvPr/>
        </p:nvPicPr>
        <p:blipFill>
          <a:blip r:embed="rId1"/>
          <a:stretch/>
        </p:blipFill>
        <p:spPr>
          <a:xfrm>
            <a:off x="539640" y="2781360"/>
            <a:ext cx="248292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Tristan Tzaraautor: Lajos Tihanyi, 19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2637000"/>
            <a:ext cx="2143080" cy="302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227640" y="2708280"/>
            <a:ext cx="2349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Arial"/>
              </a:rPr>
              <a:t>Tristan Tz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ávod, jak vytvořit dadaistickou báse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18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změte novin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změte nůžk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děte v novinách článek, aby měl délku, jakou počítáte dát své bás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lánek vystřihně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om pečlivě rozstříhejte všechna slova,která tvoří tento článek, a vložte je do pytlík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ládejte pak jeden ústřižek za druhým přesně v pořádku, v jakém vyšly z pytlík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ědomitě opiš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áseň se vám bude podoba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ězte, že jste spisovatel neskonale originální a okouzlující citlivostí, byť doposud nepochopen li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ons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myslný, až absurdní text; grafické bás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Christian MORGENS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(1871 – 19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ěmecký básník, novinář a překlad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kladatel německé nonsensové poez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udoval dějiny umění a 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ěnoval se žurnalistice, poezii a překladatel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uberkul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ěhem života malé uz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573360"/>
            <a:ext cx="20955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Hymna šibeničních brat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Ó strašný zmatku žít a pí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tu teď houpá tenká 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vouk tká sítě za skřehotu ža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účesů už vítr hrá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je hymna šibeničních bratří johohóhó To je hymna šibeničních brat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hrůzo hrůzo hrůzo siná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i proklet! sova připomí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it hvězd se láme o měsí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tebou však dosud nesved vůbec 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hrůzo hrůzo hrůzo siná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yšíš jak stříbrokůň se vzpín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kavec zkřik umár umá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 žár, tu var tu, zmar tu cá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08720" y="407664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86560" y="2781360"/>
            <a:ext cx="52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youtube.com/watch?v=uS7IdqwW3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f"/>
                </a:solidFill>
                <a:latin typeface="Arial"/>
              </a:rPr>
              <a:t>Veliké lalul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aklakvakve? Koranere!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sonsirýři - guelira: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ifsi, brafsi; gutužere: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asti, dasti kra...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lu lalu lalu lalu la! 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handraradar sísajádra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sku tes py pi?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ahapádra, pryvešádra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ukpukpici li?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lu lalu lalu lalu la! 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ochoškrt sic kalcisumpa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nmemysagart (;)!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boň sod: Quocitem Vumpa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eso Klaso Klart (!)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lu lalu lalu lalu la! </a:t>
            </a: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ibeniční písně (1905)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z němčiny přeložil Josef Hirš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714680" cy="143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13800" y="3357720"/>
            <a:ext cx="50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youtube.com/watch?v=IAGTF7ev5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4292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youtube.com/watch?v=yG2sSdghCyE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401920" cy="3166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11640" y="4437000"/>
            <a:ext cx="40384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1:21:01Z</dcterms:created>
  <dc:creator>Metzner</dc:creator>
  <dc:description/>
  <dc:language>en-US</dc:language>
  <cp:lastModifiedBy>Metzner</cp:lastModifiedBy>
  <dcterms:modified xsi:type="dcterms:W3CDTF">2011-02-13T12:56:34Z</dcterms:modified>
  <cp:revision>11</cp:revision>
  <dc:subject/>
  <dc:title>Poezie v 1. polovině 20. století</dc:title>
</cp:coreProperties>
</file>